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EDF0-DD06-427B-9A04-E1068141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BD22-61E7-4F2E-8AE9-CB167600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ED8DD-E8B9-4FA9-A782-F594B628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C0DB9-F237-402D-BAC9-9A29C441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94D19-9887-4E80-BF25-00F3CA00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750FD-C0C8-4BA5-948B-8B38AFA0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8E830-D449-4929-B160-E1243B1E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B8D5E-75BD-40B5-931E-FF949CC7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72CDA-293E-43B1-9DD0-C06E5D1A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CB88F-6A5E-41F0-B1AA-6192EDA9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7B947-D9EF-4243-A63D-38FD7BC0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40A7D-78BF-4D71-BCDE-C54F06E2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064E-8E5B-4ACC-A0B1-9EC6F89B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E8729-EEAE-438D-AC9C-22423CAE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CF106-305B-43AE-8FE6-51BA64BF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29902-60FE-4D26-A113-036E5C38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1F7B0-D2A0-478B-B0CC-1484DB1F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31FC8-47D7-4953-864A-B09A2D93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A099A-5219-49ED-97BC-2BE5008E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7E901-33B9-4CB7-A8EE-944B9338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280E7-4AE8-4294-93CA-D17CE871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F1EAC-7CBE-40FC-A4D3-81225583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56305-7ED2-4828-BA97-3BB3BB5A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EDD6-76D7-4D8B-8506-64CDF960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F819D-823D-45C3-9CD7-084DE622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ABCC1-E89F-4C8C-AD53-B4999D43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C4BEA-241B-4C55-8003-8D5655C4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8845F-2CCA-4B35-B406-306851A4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268CA-C7F2-4724-B63F-85F97582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243D6-C887-4B2E-B53D-CF3A8915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D522D-0A29-4D7B-8793-AD048D1C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D531A-3C55-4E5B-8CAB-1A5C2256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60E9A-AC6F-45E5-9625-25BE6B12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A58BA-EC4E-4AB0-8FFB-AEF4736F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A015-35DD-4B5C-B9CF-15B97DD9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6F65E-E748-4DCE-B3D1-4F5685A4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9E006-96AC-44FD-8BAF-42119451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5F512-0B9E-4AF1-8801-5D333C4B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6B6CC-1473-45D0-A58C-34D9ABB9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3B905-51C6-4FF9-96F6-87373992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B858C-0F6F-471A-8903-1292469E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9CD53-AC5B-43F8-92EE-86D73A69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CA2E4-F553-43A0-BFAA-CA54EA2C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8385B-30AD-41E3-AB85-6A1B73A9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FB161-5FBD-48EF-BFFF-B5DEAD54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B1BA-4890-4168-9ABC-7A918C88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6B237-EDCA-477B-9C3F-F6C842E1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8045F-463F-4E08-8E3D-0FDA2AEE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9EF04-DF95-4B6E-9A35-FD2AC91A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F247B-2CEC-49A2-8048-305C68A9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588C8-14F6-4EF6-A5D4-9FCD96FE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D45F2-AF4E-4280-9432-0BAEB08D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DA1CD-E95A-47E2-BC03-CC807390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97BCCF-BBF1-42E9-B078-0F3C9189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A3BCD4-7249-4CB3-A928-78D17626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37E39-9CB8-4EAE-820F-A7273F18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832D-F30C-4577-B648-BB0361F8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D370A7-E695-4532-A1A6-7E472235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BCF83-0878-4A46-AF50-08DD92CE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0197B0-6BF3-4E86-B68E-3B9CB76F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F060C0-BF10-41D2-9883-B0DD977E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473ED0-6ABF-448E-B758-7724EE0C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38D29-6517-4A07-9477-FEABD66A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83D60-48A8-4818-AE9D-E6F3238E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6C1904-F586-487D-9B6E-1C656C2C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7C878F-60FB-414A-AAC6-5C83B2EF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3E5C3-FC8B-4B28-AB4A-E0E683F1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646F-0CBC-4973-BA29-BC3DDD9B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00CB28-A783-4CFD-AD7B-104DB055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EF96B8-7FAA-431A-A661-1915FD6E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FD11BC-4D64-46E6-AB5C-FA68AC90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4D8370-B19A-43CF-AB7C-E0C0A873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6CD861-6F7E-491D-A5B8-47E0C6E1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79CA0C-C119-4049-8D6D-658603E7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5891B-A313-4DB5-ACB1-CDC8B09A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F66607-BCA2-4DE7-A202-78EF7B54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EFB487-3F50-4F4F-B040-2BE34CA6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7D43D5-7D6E-45CB-8EC1-59642B29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9E69-5029-4424-A3CC-A13C93D7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83E02B-5D72-4EEC-9AA9-959A7CBF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D71ED2-4538-4323-BAD9-CED8184C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806FE7-E397-4CF9-840C-15DFA0D8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C9A8A6-A114-413D-94ED-0B5188B0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326855-D5DC-49EB-B1E8-7D519A66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A6276E-20A1-40A4-8E35-7AB2DC5A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1236B9-921C-4F14-83C0-1D68FC79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06AEBA-47DE-4483-BCB8-DF379668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6A0231-EA47-4099-82BD-1D9E1283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A8DBF2-BA20-4E3C-8AEB-AC9DB536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1047-9315-4384-8F52-1436681C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FE521B-B8F5-4965-BEAC-C8565068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1B7C4D-E7E2-4D79-BEC5-8FBAA200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09FB62-9902-432D-BE2F-16FF3193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55F449-88FA-4444-97C4-4FBB1A48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F1034A-1AC8-45D3-8217-E570B57D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658634-D204-488E-9E28-381E20CF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35D96C-7F43-41BE-99DB-62025991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BA9E58-849D-4EAC-A0F1-EEB07652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35021B-19E6-4000-964B-8FC977F1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9420E6-30C3-4945-A3E6-C5C65F4C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FBFE-6B2B-4E4A-9802-F67C466D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E37D9B-492B-4DEE-B94C-82646E44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A828A3-D90F-4204-8522-1FF9791F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5F6A60-E57A-47CC-9CA1-2B3E943C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34E4CF-DF61-42E4-B59E-3C059B2A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80C6CB-4621-4E47-BFC3-99CD3135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321180-AA36-4322-85F1-0BA0E4B2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4AFACD-6B53-40D2-B692-D283520D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14FFD8-055C-4511-8338-C55D0124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ADCA37-F221-45B1-887B-E3910D43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B21540-CB57-4D3E-9AE8-9278557C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A75-E4CD-4A02-9431-44A9A18F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C6BA-90DC-401A-B982-F46BDC36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2D2E8C-816F-4A80-B87E-9E1DBF09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66262C-12C4-485B-94CC-7D8ACEA3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3476DE-6FE3-4958-8FE3-CFA3F887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15DC0D-5540-4BA9-AA80-87AD8682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D593FE-F5BD-49E0-8529-7FE0EC24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AFF896-2A12-471B-89F2-42FF3242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301252-8D80-4A07-8EF6-2090A870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087E35-237D-4411-B3A6-6A5A8D4C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8CECFF-6AF0-4DEE-BF95-96280523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CE1152-9CEB-4CBB-A28B-25E0418F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D9E2-1675-4878-A9B2-AA49DDF5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DDC1A6-F127-4FC8-8A39-EFE665DA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FA5D25-816F-4699-ADFD-FEDFE783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498BA1-2CED-4802-A70A-0E668246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956C00-8CD4-4E20-BECA-3DDBE22C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84E500-62DA-43A2-9FBE-2C0DE9D2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4F72F8-396C-48FD-9939-A0A494BD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89863E-943A-4768-AA29-9974A183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F9918D-7A6E-4751-94A8-60A6037B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5BC18F-058A-4440-B98B-A8DE4815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E9C3BF-F906-4BBC-AC5A-192F93B5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41BD-D9C3-4816-9A91-F881150A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9C0C6C-DAFF-4CCB-9987-7912BA6C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0A9F43-66C5-4CCC-8C2B-3EFBDC04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3C89D4-8588-4964-8981-B61D0D10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23EE98-8412-4A20-8C0F-701D373E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0880AA-19FC-41ED-BEA3-6C160E6B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723C8F-5744-438D-9CFE-D28ED03C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F9AC7F-A34C-405A-B110-0D4F45DA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27F675-BC63-4291-9B34-A1DBF694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6B7DFE-C465-4620-90F4-790468A9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BC856F-708B-4121-9483-35D9C61D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4C24-D4C6-4916-956D-CEBF5A67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947A50-338C-4606-92F2-A3483733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540AA9-F98B-4DF4-9C81-FED22786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0ED3FA-A4A2-43EE-8F71-5C0B39F4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7722B5-87B8-40FF-8F22-A2400705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FF158D-D0FD-4378-A959-0998D2AE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50E413-3784-461A-937B-855986DD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EF823F-776A-4526-AB7A-AEEC75D3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674762-A0E0-4D59-A074-FEBA377B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5625E5-2106-42C9-8D4C-9D8BC200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90135E-C3D7-4D18-847A-736B204C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7C44-E7FA-4E34-BE51-025A59B0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C8B21F-93A0-4FF0-9084-DD8CAE31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CA3D1-DDB3-41C8-BB47-B4F9B354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C4466-384B-4D8C-96DB-D0F391C5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D8CDD-7E83-457B-B204-5E1EF37C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5D7A7-4588-43C7-97B9-6BB89D0F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B7686-21EF-46AC-AEE2-A6F3CE60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1FE-FFC3-4094-8535-5ADA7635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6D8BF-FBD9-4708-8902-60DE803F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33FE8-A9E9-4215-9C3F-74B3C0BD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7DD5F-D252-4DEB-8AED-62FA2779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E8362-F261-4278-8434-18845841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39968-66C3-48E7-9703-FE92E7CC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9EB2F-B4B4-43F3-8394-22CCBE28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4105B-BFE1-41FB-AE2D-22BC774B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6C44A4-950E-48EB-8D08-1F5D796C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69BC15-91F2-4619-B0A0-02E4A3C8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840A7A-1E61-4EBF-BBA8-82902F8A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54B3-663A-4C73-A60F-E711CA8D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F9020A-3EAA-4054-9CBD-54E4E9B5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52DC00-3A4A-4055-B72A-607E3621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C2BAF7-B356-48CD-92BB-A7A5F405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2E6B17-40A2-45C7-A8E1-A29EA5F4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2D01C-5AB6-4E95-A137-05D32803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3225E5-3269-45D1-9E36-1CC05D8D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EC03CC-D7B0-401B-8E96-C655ED23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0967B8-E45B-4107-A288-C79C3CBD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461B30-273F-4B76-9268-E6DB99F1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EED15-A64F-44B4-AE7B-3F225D47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C2F-FE60-4C25-B59C-334680EF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5B388-B27B-4172-8C18-EF811303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3687E-1F51-47B0-82D6-FA00C8D9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8EE40-D3DE-49AC-ACC3-84CB3EC5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A7604-B7D0-4C50-88E9-635B49FC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3A91D-716C-46A9-B34F-B3B85135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5D9F9-4108-4046-8313-1EFFDD1D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5C147-1D74-4706-B321-E138B0AD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9D8C3-C87C-4B60-A369-D3A2A02B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4313E-E044-41A3-B0E0-286B24E5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562E6-6D10-4603-A0AB-B5A3F061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1290-47FC-4ADC-879A-FE0AD9FB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85C6D-B5CA-4BA0-A0B2-DC9BFF2D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5BF7A-6E4C-4EC0-8854-70A17D47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76277-72B1-432E-A4CF-00727FA0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3FD92-A6ED-49D8-8D2B-9E4CB57C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55CB1-D512-43EA-AE75-3EF3F9F4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220A9-8A0B-4CBB-BE5B-B073F82D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1A425-3028-47E1-96B6-C08CA896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F5598-224A-4E41-91B1-F30042BA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427E9-A822-4B23-864E-AD491D33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BAD48-6FFD-4750-942D-50996055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A929-9540-48C0-B405-D3562B05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43569-699A-4B61-A9DF-DF6CA636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9EAB4-EA5F-430F-BCDE-2F05CB60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9119C-65D1-4940-A288-D0A10F17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2848C-35B9-425D-B543-B62F44D3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A427F-144D-42DE-9AC0-57E45490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A24CB-24CE-4D11-8D5B-E880065A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BBAE3-8EA4-418C-9701-0DFC2DA0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B41A8-C251-4ED5-A2EE-0C8BEE13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24C10-375B-46FE-A46B-D553FD9B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E9E84-D67D-4C62-A63D-49459EDF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3A04-F8AF-47AB-B7A2-58DA18AB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18658-E237-4C46-83C0-15FC14A2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A5281-CE84-4FE7-8731-D1C557C7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F7921-557B-4227-B931-61A8DFC3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2C05C-AD53-4FCB-9561-62314869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C003B-8975-4F9F-A69A-EBBB2401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18EA7-89C7-4F7F-8476-EC4A4ED9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70E80-093E-471F-ACDC-2150E426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E686D-3292-467C-B27F-80A3D117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1B74F-13D5-4DCC-A75E-B16378C4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712F6-95F7-47CC-B57F-F6FF8F19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AC6-121E-4898-B16D-E8B7D0F7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52A8C-AC05-4E0D-8692-1C7845D5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64F3B-3384-422C-A521-7486E5EC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8B46F-6B05-4AD6-8F06-44A06F3C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40963-36A6-4898-8151-3E6CB233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DB3DE-829E-4507-9C9B-5689C30F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05B79-3B17-4435-A01E-7F835793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9113D-E70E-4F5E-8EDC-EF2A8D0B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FCBF4-704B-4ADA-B483-6364C122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08408-0D05-4B1C-803C-1C9277CF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036BC-EB41-41BD-BD3A-C4E07FC3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A6ED-C31A-40CB-AC50-5FDE1CBA94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图片 7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7D58-2338-4DB8-876E-B02D187C7C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C5F6-236D-41AD-B977-9A1169820D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图片 7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7340-0B4E-4B89-BFDD-51089AC796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B189-E38B-4956-A1E0-8B1CD3D83A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图片 5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5A5C-01E9-4CF9-9201-0FF7EB3F64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239F-73F7-433D-BA7B-8288CF7E96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5"/>
          <p:cNvGrpSpPr/>
          <p:nvPr/>
        </p:nvGrpSpPr>
        <p:grpSpPr>
          <a:xfrm>
            <a:off x="-781200" y="3821040"/>
            <a:ext cx="10780920" cy="3041640"/>
            <a:chOff x="-781200" y="3821040"/>
            <a:chExt cx="10780920" cy="3041640"/>
          </a:xfrm>
        </p:grpSpPr>
        <p:sp>
          <p:nvSpPr>
            <p:cNvPr id="527" name="任意多边形: 形状 6"/>
            <p:cNvSpPr/>
            <p:nvPr/>
          </p:nvSpPr>
          <p:spPr>
            <a:xfrm>
              <a:off x="-781200" y="3821040"/>
              <a:ext cx="10780920" cy="3041640"/>
            </a:xfrm>
            <a:custGeom>
              <a:avLst/>
              <a:gdLst/>
              <a:ahLst/>
              <a:rect l="l" t="t" r="r" b="b"/>
              <a:pathLst>
                <a:path w="16099157" h="4574668">
                  <a:moveTo>
                    <a:pt x="0" y="4574667"/>
                  </a:moveTo>
                  <a:cubicBezTo>
                    <a:pt x="3044190" y="1857883"/>
                    <a:pt x="9254618" y="0"/>
                    <a:pt x="16099156" y="4574667"/>
                  </a:cubicBezTo>
                  <a:close/>
                </a:path>
              </a:pathLst>
            </a:custGeom>
            <a:solidFill>
              <a:srgbClr val="e77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任意多边形: 形状 7"/>
            <p:cNvSpPr/>
            <p:nvPr/>
          </p:nvSpPr>
          <p:spPr>
            <a:xfrm>
              <a:off x="-79200" y="4417560"/>
              <a:ext cx="9132840" cy="2445120"/>
            </a:xfrm>
            <a:custGeom>
              <a:avLst/>
              <a:gdLst/>
              <a:ahLst/>
              <a:rect l="l" t="t" r="r" b="b"/>
              <a:pathLst>
                <a:path w="13637642" h="3677413">
                  <a:moveTo>
                    <a:pt x="0" y="3677412"/>
                  </a:moveTo>
                  <a:cubicBezTo>
                    <a:pt x="2578735" y="1493520"/>
                    <a:pt x="7839583" y="0"/>
                    <a:pt x="13637641" y="3677412"/>
                  </a:cubicBezTo>
                  <a:close/>
                </a:path>
              </a:pathLst>
            </a:custGeom>
            <a:solidFill>
              <a:srgbClr val="919d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: 形状 8"/>
            <p:cNvSpPr/>
            <p:nvPr/>
          </p:nvSpPr>
          <p:spPr>
            <a:xfrm>
              <a:off x="898200" y="4957560"/>
              <a:ext cx="7160040" cy="1905120"/>
            </a:xfrm>
            <a:custGeom>
              <a:avLst/>
              <a:gdLst/>
              <a:ahLst/>
              <a:rect l="l" t="t" r="r" b="b"/>
              <a:pathLst>
                <a:path w="10692004" h="2865502">
                  <a:moveTo>
                    <a:pt x="0" y="2865501"/>
                  </a:moveTo>
                  <a:cubicBezTo>
                    <a:pt x="2021713" y="1163701"/>
                    <a:pt x="6146292" y="0"/>
                    <a:pt x="10692003" y="2865501"/>
                  </a:cubicBezTo>
                  <a:close/>
                </a:path>
              </a:pathLst>
            </a:custGeom>
            <a:solidFill>
              <a:srgbClr val="c66b6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: 形状 9"/>
            <p:cNvSpPr/>
            <p:nvPr/>
          </p:nvSpPr>
          <p:spPr>
            <a:xfrm>
              <a:off x="1163880" y="5419440"/>
              <a:ext cx="6534000" cy="1428840"/>
            </a:xfrm>
            <a:custGeom>
              <a:avLst/>
              <a:gdLst/>
              <a:ahLst/>
              <a:rect l="l" t="t" r="r" b="b"/>
              <a:pathLst>
                <a:path w="9757284" h="2148841">
                  <a:moveTo>
                    <a:pt x="0" y="2148840"/>
                  </a:moveTo>
                  <a:cubicBezTo>
                    <a:pt x="1662303" y="1125728"/>
                    <a:pt x="4767707" y="0"/>
                    <a:pt x="9757283" y="2148840"/>
                  </a:cubicBezTo>
                  <a:close/>
                </a:path>
              </a:pathLst>
            </a:custGeom>
            <a:solidFill>
              <a:srgbClr val="ebe46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任意多边形: 形状 10"/>
            <p:cNvSpPr/>
            <p:nvPr/>
          </p:nvSpPr>
          <p:spPr>
            <a:xfrm>
              <a:off x="2058480" y="5843880"/>
              <a:ext cx="4857840" cy="1004040"/>
            </a:xfrm>
            <a:custGeom>
              <a:avLst/>
              <a:gdLst/>
              <a:ahLst/>
              <a:rect l="l" t="t" r="r" b="b"/>
              <a:pathLst>
                <a:path w="7253987" h="1510158">
                  <a:moveTo>
                    <a:pt x="0" y="1510157"/>
                  </a:moveTo>
                  <a:cubicBezTo>
                    <a:pt x="1235837" y="791083"/>
                    <a:pt x="3544443" y="0"/>
                    <a:pt x="7253986" y="1510157"/>
                  </a:cubicBezTo>
                  <a:close/>
                </a:path>
              </a:pathLst>
            </a:custGeom>
            <a:solidFill>
              <a:srgbClr val="7fc26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任意多边形: 形状 11"/>
            <p:cNvSpPr/>
            <p:nvPr/>
          </p:nvSpPr>
          <p:spPr>
            <a:xfrm>
              <a:off x="3077280" y="6378840"/>
              <a:ext cx="2944440" cy="469440"/>
            </a:xfrm>
            <a:custGeom>
              <a:avLst/>
              <a:gdLst/>
              <a:ahLst/>
              <a:rect l="l" t="t" r="r" b="b"/>
              <a:pathLst>
                <a:path w="4396868" h="705994">
                  <a:moveTo>
                    <a:pt x="0" y="705993"/>
                  </a:moveTo>
                  <a:cubicBezTo>
                    <a:pt x="1465580" y="207518"/>
                    <a:pt x="2581021" y="0"/>
                    <a:pt x="4396867" y="705993"/>
                  </a:cubicBezTo>
                  <a:close/>
                </a:path>
              </a:pathLst>
            </a:custGeom>
            <a:solidFill>
              <a:srgbClr val="c284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12"/>
          <p:cNvGrpSpPr/>
          <p:nvPr/>
        </p:nvGrpSpPr>
        <p:grpSpPr>
          <a:xfrm>
            <a:off x="5151600" y="1397160"/>
            <a:ext cx="3411360" cy="4392360"/>
            <a:chOff x="5151600" y="1397160"/>
            <a:chExt cx="3411360" cy="4392360"/>
          </a:xfrm>
        </p:grpSpPr>
        <p:grpSp>
          <p:nvGrpSpPr>
            <p:cNvPr id="534" name="组合 13"/>
            <p:cNvGrpSpPr/>
            <p:nvPr/>
          </p:nvGrpSpPr>
          <p:grpSpPr>
            <a:xfrm>
              <a:off x="6642720" y="1397160"/>
              <a:ext cx="1920240" cy="4392360"/>
              <a:chOff x="6642720" y="1397160"/>
              <a:chExt cx="1920240" cy="4392360"/>
            </a:xfrm>
          </p:grpSpPr>
          <p:sp>
            <p:nvSpPr>
              <p:cNvPr id="535" name="任意多边形: 形状 44"/>
              <p:cNvSpPr/>
              <p:nvPr/>
            </p:nvSpPr>
            <p:spPr>
              <a:xfrm>
                <a:off x="7778160" y="4055760"/>
                <a:ext cx="293760" cy="1731960"/>
              </a:xfrm>
              <a:custGeom>
                <a:avLst/>
                <a:gdLst/>
                <a:ahLst/>
                <a:rect l="l" t="t" r="r" b="b"/>
                <a:pathLst>
                  <a:path w="552831" h="2443226">
                    <a:moveTo>
                      <a:pt x="337312" y="84328"/>
                    </a:moveTo>
                    <a:lnTo>
                      <a:pt x="552831" y="2443226"/>
                    </a:lnTo>
                    <a:lnTo>
                      <a:pt x="285369" y="2412365"/>
                    </a:lnTo>
                    <a:lnTo>
                      <a:pt x="0" y="0"/>
                    </a:lnTo>
                    <a:lnTo>
                      <a:pt x="337312" y="84328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任意多边形: 形状 45"/>
              <p:cNvSpPr/>
              <p:nvPr/>
            </p:nvSpPr>
            <p:spPr>
              <a:xfrm>
                <a:off x="7949520" y="4129920"/>
                <a:ext cx="172080" cy="1659600"/>
              </a:xfrm>
              <a:custGeom>
                <a:avLst/>
                <a:gdLst/>
                <a:ahLst/>
                <a:rect l="l" t="t" r="r" b="b"/>
                <a:pathLst>
                  <a:path w="324231" h="2341118">
                    <a:moveTo>
                      <a:pt x="324231" y="2290064"/>
                    </a:moveTo>
                    <a:lnTo>
                      <a:pt x="233426" y="2341118"/>
                    </a:lnTo>
                    <a:lnTo>
                      <a:pt x="0" y="0"/>
                    </a:lnTo>
                    <a:lnTo>
                      <a:pt x="95250" y="19558"/>
                    </a:lnTo>
                    <a:lnTo>
                      <a:pt x="324231" y="2290064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: 形状 46"/>
              <p:cNvSpPr/>
              <p:nvPr/>
            </p:nvSpPr>
            <p:spPr>
              <a:xfrm>
                <a:off x="7783560" y="1410840"/>
                <a:ext cx="96480" cy="464040"/>
              </a:xfrm>
              <a:custGeom>
                <a:avLst/>
                <a:gdLst/>
                <a:ahLst/>
                <a:rect l="l" t="t" r="r" b="b"/>
                <a:pathLst>
                  <a:path w="181610" h="655066">
                    <a:moveTo>
                      <a:pt x="181610" y="58420"/>
                    </a:moveTo>
                    <a:lnTo>
                      <a:pt x="90805" y="0"/>
                    </a:lnTo>
                    <a:lnTo>
                      <a:pt x="0" y="645287"/>
                    </a:lnTo>
                    <a:lnTo>
                      <a:pt x="100584" y="655066"/>
                    </a:lnTo>
                    <a:lnTo>
                      <a:pt x="181610" y="58420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任意多边形: 形状 47"/>
              <p:cNvSpPr/>
              <p:nvPr/>
            </p:nvSpPr>
            <p:spPr>
              <a:xfrm>
                <a:off x="6642720" y="4001400"/>
                <a:ext cx="592920" cy="1553760"/>
              </a:xfrm>
              <a:custGeom>
                <a:avLst/>
                <a:gdLst/>
                <a:ahLst/>
                <a:rect l="l" t="t" r="r" b="b"/>
                <a:pathLst>
                  <a:path w="1115315" h="2191894">
                    <a:moveTo>
                      <a:pt x="793242" y="0"/>
                    </a:moveTo>
                    <a:lnTo>
                      <a:pt x="0" y="2055749"/>
                    </a:lnTo>
                    <a:lnTo>
                      <a:pt x="285369" y="2191893"/>
                    </a:lnTo>
                    <a:lnTo>
                      <a:pt x="1067181" y="110236"/>
                    </a:lnTo>
                    <a:lnTo>
                      <a:pt x="1115314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任意多边形: 形状 48"/>
              <p:cNvSpPr/>
              <p:nvPr/>
            </p:nvSpPr>
            <p:spPr>
              <a:xfrm>
                <a:off x="7999920" y="4143960"/>
                <a:ext cx="331920" cy="1107720"/>
              </a:xfrm>
              <a:custGeom>
                <a:avLst/>
                <a:gdLst/>
                <a:ahLst/>
                <a:rect l="l" t="t" r="r" b="b"/>
                <a:pathLst>
                  <a:path w="624587" h="1562863">
                    <a:moveTo>
                      <a:pt x="371602" y="1562862"/>
                    </a:moveTo>
                    <a:lnTo>
                      <a:pt x="0" y="0"/>
                    </a:lnTo>
                    <a:lnTo>
                      <a:pt x="228981" y="26035"/>
                    </a:lnTo>
                    <a:lnTo>
                      <a:pt x="624586" y="1562862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任意多边形: 形状 49"/>
              <p:cNvSpPr/>
              <p:nvPr/>
            </p:nvSpPr>
            <p:spPr>
              <a:xfrm>
                <a:off x="8121960" y="4161960"/>
                <a:ext cx="254880" cy="1089720"/>
              </a:xfrm>
              <a:custGeom>
                <a:avLst/>
                <a:gdLst/>
                <a:ahLst/>
                <a:rect l="l" t="t" r="r" b="b"/>
                <a:pathLst>
                  <a:path w="479806" h="1537335">
                    <a:moveTo>
                      <a:pt x="479806" y="1476375"/>
                    </a:moveTo>
                    <a:lnTo>
                      <a:pt x="395605" y="1537335"/>
                    </a:lnTo>
                    <a:lnTo>
                      <a:pt x="0" y="508"/>
                    </a:lnTo>
                    <a:lnTo>
                      <a:pt x="83312" y="0"/>
                    </a:lnTo>
                    <a:lnTo>
                      <a:pt x="479806" y="1476375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任意多边形: 形状 50"/>
              <p:cNvSpPr/>
              <p:nvPr/>
            </p:nvSpPr>
            <p:spPr>
              <a:xfrm>
                <a:off x="8332200" y="2079720"/>
                <a:ext cx="230760" cy="2114640"/>
              </a:xfrm>
              <a:custGeom>
                <a:avLst/>
                <a:gdLst/>
                <a:ahLst/>
                <a:rect l="l" t="t" r="r" b="b"/>
                <a:pathLst>
                  <a:path w="434467" h="2983103">
                    <a:moveTo>
                      <a:pt x="434467" y="58293"/>
                    </a:moveTo>
                    <a:lnTo>
                      <a:pt x="343662" y="0"/>
                    </a:lnTo>
                    <a:lnTo>
                      <a:pt x="0" y="2983103"/>
                    </a:lnTo>
                    <a:lnTo>
                      <a:pt x="77724" y="2957195"/>
                    </a:lnTo>
                    <a:lnTo>
                      <a:pt x="434467" y="58293"/>
                    </a:lnTo>
                  </a:path>
                </a:pathLst>
              </a:custGeom>
              <a:solidFill>
                <a:srgbClr val="b27d4d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任意多边形: 形状 51"/>
              <p:cNvSpPr/>
              <p:nvPr/>
            </p:nvSpPr>
            <p:spPr>
              <a:xfrm>
                <a:off x="7500960" y="1854360"/>
                <a:ext cx="358560" cy="217800"/>
              </a:xfrm>
              <a:custGeom>
                <a:avLst/>
                <a:gdLst/>
                <a:ahLst/>
                <a:rect l="l" t="t" r="r" b="b"/>
                <a:pathLst>
                  <a:path w="674497" h="307467">
                    <a:moveTo>
                      <a:pt x="57277" y="0"/>
                    </a:moveTo>
                    <a:lnTo>
                      <a:pt x="0" y="300990"/>
                    </a:lnTo>
                    <a:lnTo>
                      <a:pt x="648589" y="307467"/>
                    </a:lnTo>
                    <a:lnTo>
                      <a:pt x="674497" y="28829"/>
                    </a:lnTo>
                    <a:lnTo>
                      <a:pt x="57277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任意多边形: 形状 52"/>
              <p:cNvSpPr/>
              <p:nvPr/>
            </p:nvSpPr>
            <p:spPr>
              <a:xfrm>
                <a:off x="7845840" y="1872720"/>
                <a:ext cx="46800" cy="199440"/>
              </a:xfrm>
              <a:custGeom>
                <a:avLst/>
                <a:gdLst/>
                <a:ahLst/>
                <a:rect l="l" t="t" r="r" b="b"/>
                <a:pathLst>
                  <a:path w="88265" h="281559">
                    <a:moveTo>
                      <a:pt x="88265" y="50165"/>
                    </a:moveTo>
                    <a:lnTo>
                      <a:pt x="21971" y="0"/>
                    </a:lnTo>
                    <a:lnTo>
                      <a:pt x="0" y="281559"/>
                    </a:lnTo>
                    <a:lnTo>
                      <a:pt x="64770" y="277241"/>
                    </a:lnTo>
                    <a:lnTo>
                      <a:pt x="88265" y="50165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任意多边形: 形状 53"/>
              <p:cNvSpPr/>
              <p:nvPr/>
            </p:nvSpPr>
            <p:spPr>
              <a:xfrm>
                <a:off x="7609320" y="1397160"/>
                <a:ext cx="222120" cy="470880"/>
              </a:xfrm>
              <a:custGeom>
                <a:avLst/>
                <a:gdLst/>
                <a:ahLst/>
                <a:rect l="l" t="t" r="r" b="b"/>
                <a:pathLst>
                  <a:path w="418338" h="664718">
                    <a:moveTo>
                      <a:pt x="113538" y="0"/>
                    </a:moveTo>
                    <a:lnTo>
                      <a:pt x="418338" y="19431"/>
                    </a:lnTo>
                    <a:lnTo>
                      <a:pt x="327533" y="664718"/>
                    </a:lnTo>
                    <a:lnTo>
                      <a:pt x="0" y="656717"/>
                    </a:lnTo>
                    <a:lnTo>
                      <a:pt x="113538" y="0"/>
                    </a:lnTo>
                  </a:path>
                </a:pathLst>
              </a:custGeom>
              <a:solidFill>
                <a:srgbClr val="b29351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任意多边形: 形状 54"/>
              <p:cNvSpPr/>
              <p:nvPr/>
            </p:nvSpPr>
            <p:spPr>
              <a:xfrm>
                <a:off x="6794280" y="4079520"/>
                <a:ext cx="455040" cy="1475640"/>
              </a:xfrm>
              <a:custGeom>
                <a:avLst/>
                <a:gdLst/>
                <a:ahLst/>
                <a:rect l="l" t="t" r="r" b="b"/>
                <a:pathLst>
                  <a:path w="856107" h="2081657">
                    <a:moveTo>
                      <a:pt x="856107" y="8763"/>
                    </a:moveTo>
                    <a:lnTo>
                      <a:pt x="149352" y="2049272"/>
                    </a:lnTo>
                    <a:lnTo>
                      <a:pt x="0" y="2081657"/>
                    </a:lnTo>
                    <a:lnTo>
                      <a:pt x="781812" y="0"/>
                    </a:lnTo>
                    <a:lnTo>
                      <a:pt x="856107" y="8763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任意多边形: 形状 55"/>
              <p:cNvSpPr/>
              <p:nvPr/>
            </p:nvSpPr>
            <p:spPr>
              <a:xfrm>
                <a:off x="6887160" y="5075640"/>
                <a:ext cx="1018800" cy="427320"/>
              </a:xfrm>
              <a:custGeom>
                <a:avLst/>
                <a:gdLst/>
                <a:ahLst/>
                <a:rect l="l" t="t" r="r" b="b"/>
                <a:pathLst>
                  <a:path w="1916303" h="602996">
                    <a:moveTo>
                      <a:pt x="1916303" y="602996"/>
                    </a:moveTo>
                    <a:lnTo>
                      <a:pt x="0" y="217932"/>
                    </a:lnTo>
                    <a:lnTo>
                      <a:pt x="81407" y="0"/>
                    </a:lnTo>
                    <a:lnTo>
                      <a:pt x="1888490" y="319913"/>
                    </a:lnTo>
                    <a:lnTo>
                      <a:pt x="1916303" y="602996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任意多边形: 形状 56"/>
              <p:cNvSpPr/>
              <p:nvPr/>
            </p:nvSpPr>
            <p:spPr>
              <a:xfrm>
                <a:off x="6930360" y="5066280"/>
                <a:ext cx="960480" cy="235800"/>
              </a:xfrm>
              <a:custGeom>
                <a:avLst/>
                <a:gdLst/>
                <a:ahLst/>
                <a:rect l="l" t="t" r="r" b="b"/>
                <a:pathLst>
                  <a:path w="1807083" h="332994">
                    <a:moveTo>
                      <a:pt x="115697" y="0"/>
                    </a:moveTo>
                    <a:lnTo>
                      <a:pt x="0" y="13081"/>
                    </a:lnTo>
                    <a:lnTo>
                      <a:pt x="1807083" y="332994"/>
                    </a:lnTo>
                    <a:lnTo>
                      <a:pt x="1800606" y="272415"/>
                    </a:lnTo>
                    <a:lnTo>
                      <a:pt x="115697" y="0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任意多边形: 形状 57"/>
              <p:cNvSpPr/>
              <p:nvPr/>
            </p:nvSpPr>
            <p:spPr>
              <a:xfrm>
                <a:off x="6732360" y="2056680"/>
                <a:ext cx="1782360" cy="2137680"/>
              </a:xfrm>
              <a:custGeom>
                <a:avLst/>
                <a:gdLst/>
                <a:ahLst/>
                <a:rect l="l" t="t" r="r" b="b"/>
                <a:pathLst>
                  <a:path w="3352800" h="3015488">
                    <a:moveTo>
                      <a:pt x="427990" y="0"/>
                    </a:moveTo>
                    <a:lnTo>
                      <a:pt x="0" y="2671826"/>
                    </a:lnTo>
                    <a:lnTo>
                      <a:pt x="3009138" y="3015488"/>
                    </a:lnTo>
                    <a:lnTo>
                      <a:pt x="3352800" y="32385"/>
                    </a:lnTo>
                    <a:lnTo>
                      <a:pt x="427990" y="0"/>
                    </a:lnTo>
                  </a:path>
                </a:pathLst>
              </a:custGeom>
              <a:solidFill>
                <a:srgbClr val="bc99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任意多边形: 形状 58"/>
              <p:cNvSpPr/>
              <p:nvPr/>
            </p:nvSpPr>
            <p:spPr>
              <a:xfrm>
                <a:off x="6794280" y="2121120"/>
                <a:ext cx="1613520" cy="1958400"/>
              </a:xfrm>
              <a:custGeom>
                <a:avLst/>
                <a:gdLst/>
                <a:ahLst/>
                <a:rect l="l" t="t" r="r" b="b"/>
                <a:pathLst>
                  <a:path w="3035046" h="2762758">
                    <a:moveTo>
                      <a:pt x="402082" y="0"/>
                    </a:moveTo>
                    <a:lnTo>
                      <a:pt x="0" y="2464435"/>
                    </a:lnTo>
                    <a:lnTo>
                      <a:pt x="2717292" y="2762758"/>
                    </a:lnTo>
                    <a:lnTo>
                      <a:pt x="3035046" y="42164"/>
                    </a:lnTo>
                    <a:lnTo>
                      <a:pt x="402082" y="0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任意多边形: 形状 59"/>
              <p:cNvSpPr/>
              <p:nvPr/>
            </p:nvSpPr>
            <p:spPr>
              <a:xfrm>
                <a:off x="7462080" y="2038320"/>
                <a:ext cx="452880" cy="105480"/>
              </a:xfrm>
              <a:custGeom>
                <a:avLst/>
                <a:gdLst/>
                <a:ahLst/>
                <a:rect l="l" t="t" r="r" b="b"/>
                <a:pathLst>
                  <a:path w="851916" h="149225">
                    <a:moveTo>
                      <a:pt x="0" y="0"/>
                    </a:moveTo>
                    <a:lnTo>
                      <a:pt x="0" y="130429"/>
                    </a:lnTo>
                    <a:lnTo>
                      <a:pt x="851916" y="149225"/>
                    </a:lnTo>
                    <a:lnTo>
                      <a:pt x="851916" y="260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任意多边形: 形状 60"/>
              <p:cNvSpPr/>
              <p:nvPr/>
            </p:nvSpPr>
            <p:spPr>
              <a:xfrm>
                <a:off x="7093080" y="3831120"/>
                <a:ext cx="721800" cy="340200"/>
              </a:xfrm>
              <a:custGeom>
                <a:avLst/>
                <a:gdLst/>
                <a:ahLst/>
                <a:rect l="l" t="t" r="r" b="b"/>
                <a:pathLst>
                  <a:path w="1357630" h="479933">
                    <a:moveTo>
                      <a:pt x="25908" y="0"/>
                    </a:moveTo>
                    <a:lnTo>
                      <a:pt x="0" y="324231"/>
                    </a:lnTo>
                    <a:lnTo>
                      <a:pt x="1318641" y="479933"/>
                    </a:lnTo>
                    <a:lnTo>
                      <a:pt x="1357630" y="160020"/>
                    </a:lnTo>
                    <a:lnTo>
                      <a:pt x="25908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任意多边形: 形状 61"/>
              <p:cNvSpPr/>
              <p:nvPr/>
            </p:nvSpPr>
            <p:spPr>
              <a:xfrm>
                <a:off x="7778160" y="3943080"/>
                <a:ext cx="87120" cy="225000"/>
              </a:xfrm>
              <a:custGeom>
                <a:avLst/>
                <a:gdLst/>
                <a:ahLst/>
                <a:rect l="l" t="t" r="r" b="b"/>
                <a:pathLst>
                  <a:path w="164339" h="317755">
                    <a:moveTo>
                      <a:pt x="164338" y="15113"/>
                    </a:moveTo>
                    <a:lnTo>
                      <a:pt x="67057" y="0"/>
                    </a:lnTo>
                    <a:lnTo>
                      <a:pt x="0" y="317754"/>
                    </a:lnTo>
                    <a:cubicBezTo>
                      <a:pt x="59309" y="300736"/>
                      <a:pt x="103759" y="288163"/>
                      <a:pt x="121032" y="283210"/>
                    </a:cubicBezTo>
                    <a:close/>
                  </a:path>
                </a:pathLst>
              </a:custGeom>
              <a:solidFill>
                <a:srgbClr val="ae7b4c"/>
              </a:solidFill>
              <a:ln w="1260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任意多边形: 形状 62"/>
              <p:cNvSpPr/>
              <p:nvPr/>
            </p:nvSpPr>
            <p:spPr>
              <a:xfrm>
                <a:off x="7263360" y="2787840"/>
                <a:ext cx="682560" cy="717120"/>
              </a:xfrm>
              <a:custGeom>
                <a:avLst/>
                <a:gdLst/>
                <a:ahLst/>
                <a:rect l="l" t="t" r="r" b="b"/>
                <a:pathLst>
                  <a:path w="1283970" h="1011682">
                    <a:moveTo>
                      <a:pt x="1225677" y="1011682"/>
                    </a:moveTo>
                    <a:lnTo>
                      <a:pt x="1283970" y="84328"/>
                    </a:lnTo>
                    <a:lnTo>
                      <a:pt x="77851" y="0"/>
                    </a:lnTo>
                    <a:lnTo>
                      <a:pt x="0" y="880618"/>
                    </a:lnTo>
                    <a:lnTo>
                      <a:pt x="1225677" y="1011682"/>
                    </a:lnTo>
                  </a:path>
                </a:pathLst>
              </a:custGeom>
              <a:solidFill>
                <a:srgbClr val="e76f0b"/>
              </a:solidFill>
              <a:ln w="6480">
                <a:solidFill>
                  <a:srgbClr val="fac5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任意多边形: 形状 63"/>
              <p:cNvSpPr/>
              <p:nvPr/>
            </p:nvSpPr>
            <p:spPr>
              <a:xfrm>
                <a:off x="7216560" y="2451960"/>
                <a:ext cx="756720" cy="395280"/>
              </a:xfrm>
              <a:custGeom>
                <a:avLst/>
                <a:gdLst/>
                <a:ahLst/>
                <a:rect l="l" t="t" r="r" b="b"/>
                <a:pathLst>
                  <a:path w="1423543" h="557784">
                    <a:moveTo>
                      <a:pt x="729615" y="0"/>
                    </a:moveTo>
                    <a:lnTo>
                      <a:pt x="0" y="463677"/>
                    </a:lnTo>
                    <a:lnTo>
                      <a:pt x="1423543" y="557784"/>
                    </a:lnTo>
                    <a:lnTo>
                      <a:pt x="729615" y="0"/>
                    </a:lnTo>
                  </a:path>
                </a:pathLst>
              </a:custGeom>
              <a:solidFill>
                <a:srgbClr val="a842d9"/>
              </a:solidFill>
              <a:ln w="6480">
                <a:solidFill>
                  <a:srgbClr val="cb8e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任意多边形: 形状 64"/>
              <p:cNvSpPr/>
              <p:nvPr/>
            </p:nvSpPr>
            <p:spPr>
              <a:xfrm>
                <a:off x="7390440" y="2824920"/>
                <a:ext cx="246960" cy="293040"/>
              </a:xfrm>
              <a:custGeom>
                <a:avLst/>
                <a:gdLst/>
                <a:ahLst/>
                <a:rect l="l" t="t" r="r" b="b"/>
                <a:pathLst>
                  <a:path w="465075" h="413640">
                    <a:moveTo>
                      <a:pt x="26289" y="229616"/>
                    </a:moveTo>
                    <a:cubicBezTo>
                      <a:pt x="16637" y="127635"/>
                      <a:pt x="0" y="21082"/>
                      <a:pt x="162433" y="35052"/>
                    </a:cubicBezTo>
                    <a:cubicBezTo>
                      <a:pt x="232410" y="2159"/>
                      <a:pt x="298323" y="0"/>
                      <a:pt x="356997" y="51308"/>
                    </a:cubicBezTo>
                    <a:cubicBezTo>
                      <a:pt x="416433" y="63246"/>
                      <a:pt x="443484" y="90170"/>
                      <a:pt x="438023" y="132334"/>
                    </a:cubicBezTo>
                    <a:cubicBezTo>
                      <a:pt x="462788" y="166116"/>
                      <a:pt x="465074" y="198628"/>
                      <a:pt x="438023" y="229616"/>
                    </a:cubicBezTo>
                    <a:cubicBezTo>
                      <a:pt x="370967" y="223774"/>
                      <a:pt x="324612" y="257302"/>
                      <a:pt x="292100" y="317119"/>
                    </a:cubicBezTo>
                    <a:cubicBezTo>
                      <a:pt x="274447" y="386334"/>
                      <a:pt x="234442" y="413639"/>
                      <a:pt x="172085" y="399161"/>
                    </a:cubicBezTo>
                    <a:cubicBezTo>
                      <a:pt x="82423" y="353568"/>
                      <a:pt x="12827" y="302514"/>
                      <a:pt x="26289" y="229616"/>
                    </a:cubicBezTo>
                    <a:close/>
                  </a:path>
                </a:pathLst>
              </a:custGeom>
              <a:solidFill>
                <a:srgbClr val="f8a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组合 14"/>
            <p:cNvGrpSpPr/>
            <p:nvPr/>
          </p:nvGrpSpPr>
          <p:grpSpPr>
            <a:xfrm>
              <a:off x="5151600" y="1931400"/>
              <a:ext cx="2343240" cy="3803040"/>
              <a:chOff x="5151600" y="1931400"/>
              <a:chExt cx="2343240" cy="3803040"/>
            </a:xfrm>
          </p:grpSpPr>
          <p:grpSp>
            <p:nvGrpSpPr>
              <p:cNvPr id="557" name="组合 15"/>
              <p:cNvGrpSpPr/>
              <p:nvPr/>
            </p:nvGrpSpPr>
            <p:grpSpPr>
              <a:xfrm>
                <a:off x="5151600" y="1931400"/>
                <a:ext cx="2343240" cy="3803040"/>
                <a:chOff x="5151600" y="1931400"/>
                <a:chExt cx="2343240" cy="3803040"/>
              </a:xfrm>
            </p:grpSpPr>
            <p:sp>
              <p:nvSpPr>
                <p:cNvPr id="558" name="任意多边形: 形状 23"/>
                <p:cNvSpPr/>
                <p:nvPr/>
              </p:nvSpPr>
              <p:spPr>
                <a:xfrm>
                  <a:off x="6028560" y="4867200"/>
                  <a:ext cx="162720" cy="527400"/>
                </a:xfrm>
                <a:custGeom>
                  <a:avLst/>
                  <a:gdLst/>
                  <a:ahLst/>
                  <a:rect l="l" t="t" r="r" b="b"/>
                  <a:pathLst>
                    <a:path w="331471" h="804800">
                      <a:moveTo>
                        <a:pt x="46101" y="791210"/>
                      </a:moveTo>
                      <a:cubicBezTo>
                        <a:pt x="149987" y="804799"/>
                        <a:pt x="247650" y="779526"/>
                        <a:pt x="331470" y="729615"/>
                      </a:cubicBezTo>
                      <a:cubicBezTo>
                        <a:pt x="268224" y="537972"/>
                        <a:pt x="263144" y="281178"/>
                        <a:pt x="279527" y="0"/>
                      </a:cubicBezTo>
                      <a:lnTo>
                        <a:pt x="13716" y="0"/>
                      </a:lnTo>
                      <a:cubicBezTo>
                        <a:pt x="4318" y="325247"/>
                        <a:pt x="0" y="653034"/>
                        <a:pt x="46101" y="79121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任意多边形: 形状 24"/>
                <p:cNvSpPr/>
                <p:nvPr/>
              </p:nvSpPr>
              <p:spPr>
                <a:xfrm>
                  <a:off x="5348160" y="2207520"/>
                  <a:ext cx="1347840" cy="1426680"/>
                </a:xfrm>
                <a:custGeom>
                  <a:avLst/>
                  <a:gdLst/>
                  <a:ahLst/>
                  <a:rect l="l" t="t" r="r" b="b"/>
                  <a:pathLst>
                    <a:path w="2741677" h="2176146">
                      <a:moveTo>
                        <a:pt x="2379980" y="632333"/>
                      </a:moveTo>
                      <a:cubicBezTo>
                        <a:pt x="2741676" y="1211580"/>
                        <a:pt x="2441194" y="1634998"/>
                        <a:pt x="1689354" y="1951990"/>
                      </a:cubicBezTo>
                      <a:cubicBezTo>
                        <a:pt x="1648587" y="1981962"/>
                        <a:pt x="1633728" y="2048129"/>
                        <a:pt x="1627759" y="2127123"/>
                      </a:cubicBezTo>
                      <a:cubicBezTo>
                        <a:pt x="1548892" y="2176145"/>
                        <a:pt x="1481836" y="2170049"/>
                        <a:pt x="1430020" y="2091436"/>
                      </a:cubicBezTo>
                      <a:cubicBezTo>
                        <a:pt x="1436751" y="2009394"/>
                        <a:pt x="1390904" y="1966468"/>
                        <a:pt x="1319784" y="1942338"/>
                      </a:cubicBezTo>
                      <a:cubicBezTo>
                        <a:pt x="940435" y="1919605"/>
                        <a:pt x="578739" y="1948180"/>
                        <a:pt x="466979" y="1760728"/>
                      </a:cubicBezTo>
                      <a:lnTo>
                        <a:pt x="0" y="1096010"/>
                      </a:lnTo>
                      <a:lnTo>
                        <a:pt x="350139" y="463677"/>
                      </a:lnTo>
                      <a:lnTo>
                        <a:pt x="1089406" y="285369"/>
                      </a:lnTo>
                      <a:lnTo>
                        <a:pt x="1549908" y="0"/>
                      </a:lnTo>
                      <a:lnTo>
                        <a:pt x="1890395" y="29210"/>
                      </a:ln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任意多边形: 形状 25"/>
                <p:cNvSpPr/>
                <p:nvPr/>
              </p:nvSpPr>
              <p:spPr>
                <a:xfrm>
                  <a:off x="5697000" y="4937400"/>
                  <a:ext cx="183240" cy="633960"/>
                </a:xfrm>
                <a:custGeom>
                  <a:avLst/>
                  <a:gdLst/>
                  <a:ahLst/>
                  <a:rect l="l" t="t" r="r" b="b"/>
                  <a:pathLst>
                    <a:path w="373000" h="967106">
                      <a:moveTo>
                        <a:pt x="97409" y="0"/>
                      </a:moveTo>
                      <a:cubicBezTo>
                        <a:pt x="53340" y="333121"/>
                        <a:pt x="0" y="647954"/>
                        <a:pt x="19558" y="882015"/>
                      </a:cubicBezTo>
                      <a:cubicBezTo>
                        <a:pt x="86995" y="967105"/>
                        <a:pt x="193802" y="919480"/>
                        <a:pt x="288671" y="865759"/>
                      </a:cubicBezTo>
                      <a:cubicBezTo>
                        <a:pt x="287147" y="524002"/>
                        <a:pt x="302006" y="211582"/>
                        <a:pt x="372999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任意多边形: 形状 26"/>
                <p:cNvSpPr/>
                <p:nvPr/>
              </p:nvSpPr>
              <p:spPr>
                <a:xfrm>
                  <a:off x="5678280" y="3740400"/>
                  <a:ext cx="165600" cy="110880"/>
                </a:xfrm>
                <a:custGeom>
                  <a:avLst/>
                  <a:gdLst/>
                  <a:ahLst/>
                  <a:rect l="l" t="t" r="r" b="b"/>
                  <a:pathLst>
                    <a:path w="337186" h="169165">
                      <a:moveTo>
                        <a:pt x="142621" y="0"/>
                      </a:moveTo>
                      <a:lnTo>
                        <a:pt x="0" y="169164"/>
                      </a:lnTo>
                      <a:cubicBezTo>
                        <a:pt x="100457" y="136779"/>
                        <a:pt x="337185" y="113411"/>
                        <a:pt x="337185" y="113411"/>
                      </a:cubicBezTo>
                      <a:cubicBezTo>
                        <a:pt x="337185" y="113411"/>
                        <a:pt x="260731" y="19812"/>
                        <a:pt x="142621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任意多边形: 形状 27"/>
                <p:cNvSpPr/>
                <p:nvPr/>
              </p:nvSpPr>
              <p:spPr>
                <a:xfrm>
                  <a:off x="6404040" y="3046320"/>
                  <a:ext cx="587520" cy="640440"/>
                </a:xfrm>
                <a:custGeom>
                  <a:avLst/>
                  <a:gdLst/>
                  <a:ahLst/>
                  <a:rect l="l" t="t" r="r" b="b"/>
                  <a:pathLst>
                    <a:path w="1195197" h="977266">
                      <a:moveTo>
                        <a:pt x="64516" y="977265"/>
                      </a:moveTo>
                      <a:cubicBezTo>
                        <a:pt x="306324" y="854456"/>
                        <a:pt x="553085" y="663702"/>
                        <a:pt x="754126" y="429387"/>
                      </a:cubicBezTo>
                      <a:cubicBezTo>
                        <a:pt x="834136" y="402463"/>
                        <a:pt x="874522" y="361950"/>
                        <a:pt x="870839" y="306197"/>
                      </a:cubicBezTo>
                      <a:cubicBezTo>
                        <a:pt x="981075" y="279146"/>
                        <a:pt x="1060577" y="166751"/>
                        <a:pt x="1039495" y="150495"/>
                      </a:cubicBezTo>
                      <a:cubicBezTo>
                        <a:pt x="1018414" y="134238"/>
                        <a:pt x="919988" y="183769"/>
                        <a:pt x="841756" y="234823"/>
                      </a:cubicBezTo>
                      <a:cubicBezTo>
                        <a:pt x="892556" y="178563"/>
                        <a:pt x="927734" y="114173"/>
                        <a:pt x="1123823" y="124587"/>
                      </a:cubicBezTo>
                      <a:lnTo>
                        <a:pt x="1195196" y="111633"/>
                      </a:lnTo>
                      <a:cubicBezTo>
                        <a:pt x="1170939" y="48387"/>
                        <a:pt x="1066545" y="0"/>
                        <a:pt x="948817" y="56515"/>
                      </a:cubicBezTo>
                      <a:cubicBezTo>
                        <a:pt x="861313" y="62992"/>
                        <a:pt x="809751" y="116459"/>
                        <a:pt x="760730" y="173228"/>
                      </a:cubicBezTo>
                      <a:cubicBezTo>
                        <a:pt x="573913" y="450469"/>
                        <a:pt x="323088" y="650875"/>
                        <a:pt x="0" y="764413"/>
                      </a:cubicBezTo>
                      <a:cubicBezTo>
                        <a:pt x="21717" y="837438"/>
                        <a:pt x="24130" y="915924"/>
                        <a:pt x="64516" y="977265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任意多边形: 形状 28"/>
                <p:cNvSpPr/>
                <p:nvPr/>
              </p:nvSpPr>
              <p:spPr>
                <a:xfrm>
                  <a:off x="5669640" y="3520800"/>
                  <a:ext cx="788400" cy="1060200"/>
                </a:xfrm>
                <a:custGeom>
                  <a:avLst/>
                  <a:gdLst/>
                  <a:ahLst/>
                  <a:rect l="l" t="t" r="r" b="b"/>
                  <a:pathLst>
                    <a:path w="1604011" h="1616965">
                      <a:moveTo>
                        <a:pt x="99441" y="337185"/>
                      </a:moveTo>
                      <a:cubicBezTo>
                        <a:pt x="210439" y="357759"/>
                        <a:pt x="315341" y="407162"/>
                        <a:pt x="410718" y="501523"/>
                      </a:cubicBezTo>
                      <a:lnTo>
                        <a:pt x="0" y="1292733"/>
                      </a:lnTo>
                      <a:cubicBezTo>
                        <a:pt x="271272" y="1474089"/>
                        <a:pt x="661035" y="1560957"/>
                        <a:pt x="1089533" y="1616964"/>
                      </a:cubicBezTo>
                      <a:cubicBezTo>
                        <a:pt x="1203452" y="1285621"/>
                        <a:pt x="1279779" y="930402"/>
                        <a:pt x="1301369" y="540385"/>
                      </a:cubicBezTo>
                      <a:cubicBezTo>
                        <a:pt x="1301242" y="423799"/>
                        <a:pt x="1425067" y="367157"/>
                        <a:pt x="1604010" y="337185"/>
                      </a:cubicBezTo>
                      <a:lnTo>
                        <a:pt x="1478661" y="0"/>
                      </a:lnTo>
                      <a:cubicBezTo>
                        <a:pt x="1231264" y="74676"/>
                        <a:pt x="1042289" y="85979"/>
                        <a:pt x="987298" y="38862"/>
                      </a:cubicBezTo>
                      <a:cubicBezTo>
                        <a:pt x="967359" y="224790"/>
                        <a:pt x="772794" y="140462"/>
                        <a:pt x="765048" y="26035"/>
                      </a:cubicBezTo>
                      <a:cubicBezTo>
                        <a:pt x="445770" y="36068"/>
                        <a:pt x="249936" y="183134"/>
                        <a:pt x="99441" y="337185"/>
                      </a:cubicBezTo>
                      <a:close/>
                    </a:path>
                  </a:pathLst>
                </a:custGeom>
                <a:solidFill>
                  <a:srgbClr val="a49dc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任意多边形: 形状 29"/>
                <p:cNvSpPr/>
                <p:nvPr/>
              </p:nvSpPr>
              <p:spPr>
                <a:xfrm>
                  <a:off x="5679720" y="4401360"/>
                  <a:ext cx="578520" cy="569160"/>
                </a:xfrm>
                <a:custGeom>
                  <a:avLst/>
                  <a:gdLst/>
                  <a:ahLst/>
                  <a:rect l="l" t="t" r="r" b="b"/>
                  <a:pathLst>
                    <a:path w="1176783" h="868046">
                      <a:moveTo>
                        <a:pt x="64897" y="0"/>
                      </a:moveTo>
                      <a:cubicBezTo>
                        <a:pt x="17272" y="261620"/>
                        <a:pt x="0" y="523240"/>
                        <a:pt x="16256" y="784733"/>
                      </a:cubicBezTo>
                      <a:cubicBezTo>
                        <a:pt x="167259" y="836549"/>
                        <a:pt x="341503" y="868045"/>
                        <a:pt x="625856" y="804164"/>
                      </a:cubicBezTo>
                      <a:cubicBezTo>
                        <a:pt x="789432" y="852551"/>
                        <a:pt x="951484" y="850900"/>
                        <a:pt x="1112266" y="804164"/>
                      </a:cubicBezTo>
                      <a:cubicBezTo>
                        <a:pt x="1167384" y="594233"/>
                        <a:pt x="1176782" y="337566"/>
                        <a:pt x="1160907" y="55118"/>
                      </a:cubicBezTo>
                      <a:cubicBezTo>
                        <a:pt x="821817" y="181610"/>
                        <a:pt x="455803" y="183388"/>
                        <a:pt x="64897" y="0"/>
                      </a:cubicBezTo>
                      <a:close/>
                    </a:path>
                  </a:pathLst>
                </a:custGeom>
                <a:solidFill>
                  <a:srgbClr val="d57f3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任意多边形: 形状 30"/>
                <p:cNvSpPr/>
                <p:nvPr/>
              </p:nvSpPr>
              <p:spPr>
                <a:xfrm>
                  <a:off x="5799240" y="3547440"/>
                  <a:ext cx="585720" cy="1506600"/>
                </a:xfrm>
                <a:custGeom>
                  <a:avLst/>
                  <a:gdLst/>
                  <a:ahLst/>
                  <a:rect l="l" t="t" r="r" b="b"/>
                  <a:pathLst>
                    <a:path w="1191516" h="2297812">
                      <a:moveTo>
                        <a:pt x="203328" y="32385"/>
                      </a:moveTo>
                      <a:lnTo>
                        <a:pt x="348870" y="0"/>
                      </a:lnTo>
                      <a:cubicBezTo>
                        <a:pt x="460376" y="126746"/>
                        <a:pt x="518796" y="242951"/>
                        <a:pt x="521082" y="347980"/>
                      </a:cubicBezTo>
                      <a:cubicBezTo>
                        <a:pt x="636906" y="317500"/>
                        <a:pt x="752984" y="310515"/>
                        <a:pt x="869062" y="326390"/>
                      </a:cubicBezTo>
                      <a:cubicBezTo>
                        <a:pt x="863347" y="201549"/>
                        <a:pt x="835661" y="95631"/>
                        <a:pt x="776098" y="17272"/>
                      </a:cubicBezTo>
                      <a:lnTo>
                        <a:pt x="890652" y="28067"/>
                      </a:lnTo>
                      <a:cubicBezTo>
                        <a:pt x="1166749" y="377952"/>
                        <a:pt x="1191515" y="1202055"/>
                        <a:pt x="1118743" y="2210308"/>
                      </a:cubicBezTo>
                      <a:cubicBezTo>
                        <a:pt x="878840" y="2297811"/>
                        <a:pt x="409194" y="2271649"/>
                        <a:pt x="0" y="2236216"/>
                      </a:cubicBezTo>
                      <a:cubicBezTo>
                        <a:pt x="201550" y="1260221"/>
                        <a:pt x="441453" y="379857"/>
                        <a:pt x="203328" y="32385"/>
                      </a:cubicBezTo>
                      <a:close/>
                    </a:path>
                  </a:pathLst>
                </a:custGeom>
                <a:solidFill>
                  <a:srgbClr val="e7e875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任意多边形: 形状 31"/>
                <p:cNvSpPr/>
                <p:nvPr/>
              </p:nvSpPr>
              <p:spPr>
                <a:xfrm>
                  <a:off x="5655240" y="5505120"/>
                  <a:ext cx="397800" cy="229320"/>
                </a:xfrm>
                <a:custGeom>
                  <a:avLst/>
                  <a:gdLst/>
                  <a:ahLst/>
                  <a:rect l="l" t="t" r="r" b="b"/>
                  <a:pathLst>
                    <a:path w="809753" h="350267">
                      <a:moveTo>
                        <a:pt x="98425" y="9779"/>
                      </a:moveTo>
                      <a:cubicBezTo>
                        <a:pt x="0" y="218186"/>
                        <a:pt x="279527" y="350266"/>
                        <a:pt x="724281" y="278892"/>
                      </a:cubicBezTo>
                      <a:cubicBezTo>
                        <a:pt x="809752" y="243205"/>
                        <a:pt x="809752" y="132969"/>
                        <a:pt x="743712" y="90805"/>
                      </a:cubicBezTo>
                      <a:cubicBezTo>
                        <a:pt x="664083" y="20066"/>
                        <a:pt x="520827" y="8382"/>
                        <a:pt x="374015" y="0"/>
                      </a:cubicBezTo>
                      <a:cubicBezTo>
                        <a:pt x="291211" y="60579"/>
                        <a:pt x="197231" y="50419"/>
                        <a:pt x="98425" y="9779"/>
                      </a:cubicBezTo>
                      <a:close/>
                    </a:path>
                  </a:pathLst>
                </a:custGeom>
                <a:solidFill>
                  <a:srgbClr val="89b8d7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任意多边形: 形状 32"/>
                <p:cNvSpPr/>
                <p:nvPr/>
              </p:nvSpPr>
              <p:spPr>
                <a:xfrm>
                  <a:off x="6047280" y="5318280"/>
                  <a:ext cx="336960" cy="176040"/>
                </a:xfrm>
                <a:custGeom>
                  <a:avLst/>
                  <a:gdLst/>
                  <a:ahLst/>
                  <a:rect l="l" t="t" r="r" b="b"/>
                  <a:pathLst>
                    <a:path w="686055" h="268606">
                      <a:moveTo>
                        <a:pt x="14097" y="103251"/>
                      </a:moveTo>
                      <a:cubicBezTo>
                        <a:pt x="0" y="175768"/>
                        <a:pt x="55626" y="232791"/>
                        <a:pt x="205359" y="268605"/>
                      </a:cubicBezTo>
                      <a:cubicBezTo>
                        <a:pt x="366649" y="265176"/>
                        <a:pt x="520319" y="256413"/>
                        <a:pt x="626872" y="213487"/>
                      </a:cubicBezTo>
                      <a:cubicBezTo>
                        <a:pt x="673354" y="197231"/>
                        <a:pt x="686054" y="141224"/>
                        <a:pt x="648970" y="103251"/>
                      </a:cubicBezTo>
                      <a:cubicBezTo>
                        <a:pt x="569849" y="0"/>
                        <a:pt x="431673" y="2159"/>
                        <a:pt x="297815" y="10795"/>
                      </a:cubicBezTo>
                      <a:cubicBezTo>
                        <a:pt x="260477" y="116586"/>
                        <a:pt x="144526" y="102616"/>
                        <a:pt x="14097" y="103251"/>
                      </a:cubicBezTo>
                      <a:close/>
                    </a:path>
                  </a:pathLst>
                </a:custGeom>
                <a:solidFill>
                  <a:srgbClr val="87b2c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任意多边形: 形状 33"/>
                <p:cNvSpPr/>
                <p:nvPr/>
              </p:nvSpPr>
              <p:spPr>
                <a:xfrm>
                  <a:off x="5315400" y="3680640"/>
                  <a:ext cx="995400" cy="833400"/>
                </a:xfrm>
                <a:custGeom>
                  <a:avLst/>
                  <a:gdLst/>
                  <a:ahLst/>
                  <a:rect l="l" t="t" r="r" b="b"/>
                  <a:pathLst>
                    <a:path w="2025016" h="1271398">
                      <a:moveTo>
                        <a:pt x="1597787" y="341376"/>
                      </a:moveTo>
                      <a:cubicBezTo>
                        <a:pt x="1130046" y="0"/>
                        <a:pt x="0" y="384048"/>
                        <a:pt x="267589" y="768858"/>
                      </a:cubicBezTo>
                      <a:cubicBezTo>
                        <a:pt x="669671" y="1271397"/>
                        <a:pt x="2025015" y="1255268"/>
                        <a:pt x="1908810" y="752602"/>
                      </a:cubicBezTo>
                      <a:cubicBezTo>
                        <a:pt x="1853565" y="648081"/>
                        <a:pt x="1751203" y="600329"/>
                        <a:pt x="1620012" y="587248"/>
                      </a:cubicBezTo>
                      <a:cubicBezTo>
                        <a:pt x="1567180" y="568452"/>
                        <a:pt x="1567815" y="484378"/>
                        <a:pt x="1584071" y="477012"/>
                      </a:cubicBezTo>
                      <a:cubicBezTo>
                        <a:pt x="1600327" y="469645"/>
                        <a:pt x="1621282" y="389509"/>
                        <a:pt x="1597787" y="341376"/>
                      </a:cubicBezTo>
                      <a:close/>
                    </a:path>
                  </a:pathLst>
                </a:custGeom>
                <a:solidFill>
                  <a:srgbClr val="dac4a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任意多边形: 形状 34"/>
                <p:cNvSpPr/>
                <p:nvPr/>
              </p:nvSpPr>
              <p:spPr>
                <a:xfrm>
                  <a:off x="6611040" y="3066840"/>
                  <a:ext cx="622800" cy="144000"/>
                </a:xfrm>
                <a:custGeom>
                  <a:avLst/>
                  <a:gdLst/>
                  <a:ahLst/>
                  <a:rect l="l" t="t" r="r" b="b"/>
                  <a:pathLst>
                    <a:path w="1267080" h="219838">
                      <a:moveTo>
                        <a:pt x="93218" y="203327"/>
                      </a:moveTo>
                      <a:cubicBezTo>
                        <a:pt x="0" y="189992"/>
                        <a:pt x="371602" y="123571"/>
                        <a:pt x="1244346" y="0"/>
                      </a:cubicBezTo>
                      <a:lnTo>
                        <a:pt x="1267079" y="34671"/>
                      </a:lnTo>
                      <a:cubicBezTo>
                        <a:pt x="788162" y="161036"/>
                        <a:pt x="393573" y="219837"/>
                        <a:pt x="93218" y="203327"/>
                      </a:cubicBezTo>
                      <a:close/>
                    </a:path>
                  </a:pathLst>
                </a:custGeom>
                <a:solidFill>
                  <a:srgbClr val="b3433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任意多边形: 形状 35"/>
                <p:cNvSpPr/>
                <p:nvPr/>
              </p:nvSpPr>
              <p:spPr>
                <a:xfrm>
                  <a:off x="7218360" y="2991240"/>
                  <a:ext cx="195480" cy="144000"/>
                </a:xfrm>
                <a:custGeom>
                  <a:avLst/>
                  <a:gdLst/>
                  <a:ahLst/>
                  <a:rect l="l" t="t" r="r" b="b"/>
                  <a:pathLst>
                    <a:path w="398273" h="219965">
                      <a:moveTo>
                        <a:pt x="5842" y="98425"/>
                      </a:moveTo>
                      <a:cubicBezTo>
                        <a:pt x="0" y="27559"/>
                        <a:pt x="158750" y="9906"/>
                        <a:pt x="362585" y="0"/>
                      </a:cubicBezTo>
                      <a:lnTo>
                        <a:pt x="398272" y="115570"/>
                      </a:lnTo>
                      <a:cubicBezTo>
                        <a:pt x="273685" y="167513"/>
                        <a:pt x="149098" y="219964"/>
                        <a:pt x="31877" y="150241"/>
                      </a:cubicBezTo>
                      <a:cubicBezTo>
                        <a:pt x="17526" y="134620"/>
                        <a:pt x="10160" y="116967"/>
                        <a:pt x="5842" y="98425"/>
                      </a:cubicBezTo>
                      <a:close/>
                    </a:path>
                  </a:pathLst>
                </a:custGeom>
                <a:solidFill>
                  <a:srgbClr val="78201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任意多边形: 形状 36"/>
                <p:cNvSpPr/>
                <p:nvPr/>
              </p:nvSpPr>
              <p:spPr>
                <a:xfrm>
                  <a:off x="7332480" y="2902680"/>
                  <a:ext cx="162360" cy="193320"/>
                </a:xfrm>
                <a:custGeom>
                  <a:avLst/>
                  <a:gdLst/>
                  <a:ahLst/>
                  <a:rect l="l" t="t" r="r" b="b"/>
                  <a:pathLst>
                    <a:path w="330709" h="295022">
                      <a:moveTo>
                        <a:pt x="330708" y="0"/>
                      </a:moveTo>
                      <a:cubicBezTo>
                        <a:pt x="301498" y="250571"/>
                        <a:pt x="155575" y="295021"/>
                        <a:pt x="86487" y="182626"/>
                      </a:cubicBezTo>
                      <a:cubicBezTo>
                        <a:pt x="0" y="46482"/>
                        <a:pt x="254000" y="120523"/>
                        <a:pt x="330708" y="0"/>
                      </a:cubicBezTo>
                      <a:close/>
                    </a:path>
                  </a:pathLst>
                </a:custGeom>
                <a:solidFill>
                  <a:srgbClr val="da6634"/>
                </a:solidFill>
                <a:ln w="12600">
                  <a:solidFill>
                    <a:srgbClr val="fac5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任意多边形: 形状 37"/>
                <p:cNvSpPr/>
                <p:nvPr/>
              </p:nvSpPr>
              <p:spPr>
                <a:xfrm>
                  <a:off x="5151600" y="1931400"/>
                  <a:ext cx="1384200" cy="1485720"/>
                </a:xfrm>
                <a:custGeom>
                  <a:avLst/>
                  <a:gdLst/>
                  <a:ahLst/>
                  <a:rect l="l" t="t" r="r" b="b"/>
                  <a:pathLst>
                    <a:path w="2815591" h="2266189">
                      <a:moveTo>
                        <a:pt x="782574" y="437388"/>
                      </a:moveTo>
                      <a:cubicBezTo>
                        <a:pt x="0" y="1125093"/>
                        <a:pt x="240792" y="1710690"/>
                        <a:pt x="782574" y="2266188"/>
                      </a:cubicBezTo>
                      <a:cubicBezTo>
                        <a:pt x="839597" y="2193544"/>
                        <a:pt x="889000" y="2117979"/>
                        <a:pt x="889635" y="2022983"/>
                      </a:cubicBezTo>
                      <a:cubicBezTo>
                        <a:pt x="558927" y="1977644"/>
                        <a:pt x="555625" y="1607947"/>
                        <a:pt x="986917" y="1731137"/>
                      </a:cubicBezTo>
                      <a:cubicBezTo>
                        <a:pt x="1129284" y="1503680"/>
                        <a:pt x="1164844" y="1229487"/>
                        <a:pt x="1084199" y="904240"/>
                      </a:cubicBezTo>
                      <a:cubicBezTo>
                        <a:pt x="1323594" y="1020064"/>
                        <a:pt x="1466596" y="1219835"/>
                        <a:pt x="1551178" y="1439291"/>
                      </a:cubicBezTo>
                      <a:lnTo>
                        <a:pt x="1896491" y="1327404"/>
                      </a:lnTo>
                      <a:cubicBezTo>
                        <a:pt x="1923161" y="1138682"/>
                        <a:pt x="1827530" y="922020"/>
                        <a:pt x="1706753" y="690245"/>
                      </a:cubicBezTo>
                      <a:cubicBezTo>
                        <a:pt x="1869440" y="902589"/>
                        <a:pt x="1977136" y="1106678"/>
                        <a:pt x="1969389" y="1293368"/>
                      </a:cubicBezTo>
                      <a:lnTo>
                        <a:pt x="2212594" y="1205865"/>
                      </a:lnTo>
                      <a:cubicBezTo>
                        <a:pt x="2230628" y="1053719"/>
                        <a:pt x="2138807" y="846328"/>
                        <a:pt x="2001774" y="602742"/>
                      </a:cubicBezTo>
                      <a:cubicBezTo>
                        <a:pt x="2168270" y="752856"/>
                        <a:pt x="2279903" y="945769"/>
                        <a:pt x="2368169" y="1157224"/>
                      </a:cubicBezTo>
                      <a:lnTo>
                        <a:pt x="2504313" y="1118362"/>
                      </a:lnTo>
                      <a:cubicBezTo>
                        <a:pt x="2525268" y="939292"/>
                        <a:pt x="2427351" y="734568"/>
                        <a:pt x="2261108" y="515239"/>
                      </a:cubicBezTo>
                      <a:cubicBezTo>
                        <a:pt x="2465197" y="698119"/>
                        <a:pt x="2614041" y="877570"/>
                        <a:pt x="2659888" y="1050290"/>
                      </a:cubicBezTo>
                      <a:lnTo>
                        <a:pt x="2815590" y="1011428"/>
                      </a:lnTo>
                      <a:cubicBezTo>
                        <a:pt x="2559431" y="456946"/>
                        <a:pt x="2058035" y="0"/>
                        <a:pt x="1152144" y="291592"/>
                      </a:cubicBezTo>
                      <a:cubicBezTo>
                        <a:pt x="1048385" y="301371"/>
                        <a:pt x="989203" y="204978"/>
                        <a:pt x="957580" y="126239"/>
                      </a:cubicBezTo>
                      <a:cubicBezTo>
                        <a:pt x="932942" y="204344"/>
                        <a:pt x="947547" y="279019"/>
                        <a:pt x="1006221" y="350013"/>
                      </a:cubicBezTo>
                      <a:cubicBezTo>
                        <a:pt x="947547" y="280290"/>
                        <a:pt x="860298" y="250699"/>
                        <a:pt x="743585" y="262510"/>
                      </a:cubicBezTo>
                      <a:cubicBezTo>
                        <a:pt x="817880" y="307341"/>
                        <a:pt x="869442" y="352680"/>
                        <a:pt x="889508" y="398654"/>
                      </a:cubicBezTo>
                      <a:cubicBezTo>
                        <a:pt x="786892" y="347854"/>
                        <a:pt x="718820" y="364110"/>
                        <a:pt x="613918" y="427864"/>
                      </a:cubicBezTo>
                      <a:cubicBezTo>
                        <a:pt x="698119" y="412496"/>
                        <a:pt x="758952" y="412623"/>
                        <a:pt x="782574" y="437388"/>
                      </a:cubicBezTo>
                      <a:close/>
                    </a:path>
                  </a:pathLst>
                </a:custGeom>
                <a:solidFill>
                  <a:srgbClr val="d8660a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任意多边形: 形状 38"/>
                <p:cNvSpPr/>
                <p:nvPr/>
              </p:nvSpPr>
              <p:spPr>
                <a:xfrm>
                  <a:off x="5824080" y="3879720"/>
                  <a:ext cx="113040" cy="77400"/>
                </a:xfrm>
                <a:custGeom>
                  <a:avLst/>
                  <a:gdLst/>
                  <a:ahLst/>
                  <a:rect l="l" t="t" r="r" b="b"/>
                  <a:pathLst>
                    <a:path w="230125" h="118365">
                      <a:moveTo>
                        <a:pt x="230124" y="44577"/>
                      </a:moveTo>
                      <a:cubicBezTo>
                        <a:pt x="230124" y="66421"/>
                        <a:pt x="202565" y="118364"/>
                        <a:pt x="115062" y="108585"/>
                      </a:cubicBezTo>
                      <a:cubicBezTo>
                        <a:pt x="15748" y="109982"/>
                        <a:pt x="0" y="68072"/>
                        <a:pt x="0" y="44577"/>
                      </a:cubicBezTo>
                      <a:cubicBezTo>
                        <a:pt x="0" y="21082"/>
                        <a:pt x="51562" y="0"/>
                        <a:pt x="115062" y="0"/>
                      </a:cubicBezTo>
                      <a:cubicBezTo>
                        <a:pt x="178562" y="0"/>
                        <a:pt x="230124" y="22733"/>
                        <a:pt x="230124" y="44577"/>
                      </a:cubicBezTo>
                      <a:close/>
                    </a:path>
                  </a:pathLst>
                </a:custGeom>
                <a:solidFill>
                  <a:srgbClr val="a842d9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任意多边形: 形状 39"/>
                <p:cNvSpPr/>
                <p:nvPr/>
              </p:nvSpPr>
              <p:spPr>
                <a:xfrm>
                  <a:off x="5644440" y="3908160"/>
                  <a:ext cx="103320" cy="64800"/>
                </a:xfrm>
                <a:custGeom>
                  <a:avLst/>
                  <a:gdLst/>
                  <a:ahLst/>
                  <a:rect l="l" t="t" r="r" b="b"/>
                  <a:pathLst>
                    <a:path w="210821" h="98934">
                      <a:moveTo>
                        <a:pt x="210820" y="36449"/>
                      </a:moveTo>
                      <a:cubicBezTo>
                        <a:pt x="210820" y="0"/>
                        <a:pt x="163576" y="0"/>
                        <a:pt x="105410" y="0"/>
                      </a:cubicBezTo>
                      <a:cubicBezTo>
                        <a:pt x="47244" y="0"/>
                        <a:pt x="0" y="45847"/>
                        <a:pt x="0" y="66040"/>
                      </a:cubicBezTo>
                      <a:cubicBezTo>
                        <a:pt x="0" y="98933"/>
                        <a:pt x="47244" y="98933"/>
                        <a:pt x="105410" y="98933"/>
                      </a:cubicBezTo>
                      <a:cubicBezTo>
                        <a:pt x="163576" y="98933"/>
                        <a:pt x="210820" y="72898"/>
                        <a:pt x="210820" y="36449"/>
                      </a:cubicBezTo>
                      <a:close/>
                    </a:path>
                  </a:pathLst>
                </a:custGeom>
                <a:solidFill>
                  <a:srgbClr val="e76f0b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任意多边形: 形状 40"/>
                <p:cNvSpPr/>
                <p:nvPr/>
              </p:nvSpPr>
              <p:spPr>
                <a:xfrm>
                  <a:off x="5513760" y="4030920"/>
                  <a:ext cx="109800" cy="73080"/>
                </a:xfrm>
                <a:custGeom>
                  <a:avLst/>
                  <a:gdLst/>
                  <a:ahLst/>
                  <a:rect l="l" t="t" r="r" b="b"/>
                  <a:pathLst>
                    <a:path w="223775" h="111761">
                      <a:moveTo>
                        <a:pt x="223774" y="66421"/>
                      </a:moveTo>
                      <a:cubicBezTo>
                        <a:pt x="223774" y="111760"/>
                        <a:pt x="168656" y="111760"/>
                        <a:pt x="111887" y="111760"/>
                      </a:cubicBezTo>
                      <a:cubicBezTo>
                        <a:pt x="50165" y="111760"/>
                        <a:pt x="0" y="110109"/>
                        <a:pt x="0" y="66421"/>
                      </a:cubicBezTo>
                      <a:cubicBezTo>
                        <a:pt x="0" y="22733"/>
                        <a:pt x="50038" y="0"/>
                        <a:pt x="111887" y="0"/>
                      </a:cubicBezTo>
                      <a:cubicBezTo>
                        <a:pt x="173736" y="0"/>
                        <a:pt x="223774" y="21082"/>
                        <a:pt x="223774" y="66421"/>
                      </a:cubicBezTo>
                      <a:close/>
                    </a:path>
                  </a:pathLst>
                </a:custGeom>
                <a:solidFill>
                  <a:srgbClr val="60b74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任意多边形: 形状 41"/>
                <p:cNvSpPr/>
                <p:nvPr/>
              </p:nvSpPr>
              <p:spPr>
                <a:xfrm>
                  <a:off x="5568840" y="4150800"/>
                  <a:ext cx="115560" cy="80640"/>
                </a:xfrm>
                <a:custGeom>
                  <a:avLst/>
                  <a:gdLst/>
                  <a:ahLst/>
                  <a:rect l="l" t="t" r="r" b="b"/>
                  <a:pathLst>
                    <a:path w="235713" h="123191">
                      <a:moveTo>
                        <a:pt x="235712" y="55118"/>
                      </a:moveTo>
                      <a:cubicBezTo>
                        <a:pt x="235712" y="103759"/>
                        <a:pt x="183007" y="123190"/>
                        <a:pt x="117856" y="123190"/>
                      </a:cubicBezTo>
                      <a:cubicBezTo>
                        <a:pt x="52832" y="123190"/>
                        <a:pt x="0" y="92329"/>
                        <a:pt x="0" y="55118"/>
                      </a:cubicBezTo>
                      <a:cubicBezTo>
                        <a:pt x="0" y="17780"/>
                        <a:pt x="52705" y="0"/>
                        <a:pt x="117856" y="0"/>
                      </a:cubicBezTo>
                      <a:cubicBezTo>
                        <a:pt x="183007" y="0"/>
                        <a:pt x="235712" y="6477"/>
                        <a:pt x="235712" y="55118"/>
                      </a:cubicBezTo>
                      <a:close/>
                    </a:path>
                  </a:pathLst>
                </a:custGeom>
                <a:solidFill>
                  <a:srgbClr val="87adb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任意多边形: 形状 42"/>
                <p:cNvSpPr/>
                <p:nvPr/>
              </p:nvSpPr>
              <p:spPr>
                <a:xfrm>
                  <a:off x="5717160" y="4214520"/>
                  <a:ext cx="109800" cy="89280"/>
                </a:xfrm>
                <a:custGeom>
                  <a:avLst/>
                  <a:gdLst/>
                  <a:ahLst/>
                  <a:rect l="l" t="t" r="r" b="b"/>
                  <a:pathLst>
                    <a:path w="223775" h="136272">
                      <a:moveTo>
                        <a:pt x="223774" y="58420"/>
                      </a:moveTo>
                      <a:cubicBezTo>
                        <a:pt x="223774" y="17907"/>
                        <a:pt x="173736" y="0"/>
                        <a:pt x="111887" y="0"/>
                      </a:cubicBezTo>
                      <a:cubicBezTo>
                        <a:pt x="50038" y="0"/>
                        <a:pt x="0" y="47625"/>
                        <a:pt x="0" y="58420"/>
                      </a:cubicBezTo>
                      <a:cubicBezTo>
                        <a:pt x="0" y="103759"/>
                        <a:pt x="50038" y="136271"/>
                        <a:pt x="111887" y="136271"/>
                      </a:cubicBezTo>
                      <a:cubicBezTo>
                        <a:pt x="173736" y="136271"/>
                        <a:pt x="223774" y="98933"/>
                        <a:pt x="223774" y="58420"/>
                      </a:cubicBezTo>
                      <a:close/>
                    </a:path>
                  </a:pathLst>
                </a:custGeom>
                <a:solidFill>
                  <a:srgbClr val="8e93c8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任意多边形: 形状 43"/>
                <p:cNvSpPr/>
                <p:nvPr/>
              </p:nvSpPr>
              <p:spPr>
                <a:xfrm>
                  <a:off x="5880600" y="4219560"/>
                  <a:ext cx="120240" cy="83880"/>
                </a:xfrm>
                <a:custGeom>
                  <a:avLst/>
                  <a:gdLst/>
                  <a:ahLst/>
                  <a:rect l="l" t="t" r="r" b="b"/>
                  <a:pathLst>
                    <a:path w="244857" h="128144">
                      <a:moveTo>
                        <a:pt x="244856" y="60833"/>
                      </a:moveTo>
                      <a:cubicBezTo>
                        <a:pt x="244856" y="94107"/>
                        <a:pt x="189992" y="128143"/>
                        <a:pt x="122428" y="128143"/>
                      </a:cubicBezTo>
                      <a:cubicBezTo>
                        <a:pt x="54864" y="128143"/>
                        <a:pt x="0" y="95758"/>
                        <a:pt x="0" y="60833"/>
                      </a:cubicBezTo>
                      <a:cubicBezTo>
                        <a:pt x="0" y="45212"/>
                        <a:pt x="54864" y="0"/>
                        <a:pt x="122428" y="0"/>
                      </a:cubicBezTo>
                      <a:cubicBezTo>
                        <a:pt x="189992" y="0"/>
                        <a:pt x="244856" y="27559"/>
                        <a:pt x="244856" y="60833"/>
                      </a:cubicBezTo>
                      <a:close/>
                    </a:path>
                  </a:pathLst>
                </a:custGeom>
                <a:solidFill>
                  <a:srgbClr val="eae630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16"/>
              <p:cNvGrpSpPr/>
              <p:nvPr/>
            </p:nvGrpSpPr>
            <p:grpSpPr>
              <a:xfrm>
                <a:off x="6001200" y="2765880"/>
                <a:ext cx="520920" cy="522000"/>
                <a:chOff x="6001200" y="2765880"/>
                <a:chExt cx="520920" cy="522000"/>
              </a:xfrm>
            </p:grpSpPr>
            <p:sp>
              <p:nvSpPr>
                <p:cNvPr id="580" name="任意多边形: 形状 17"/>
                <p:cNvSpPr/>
                <p:nvPr/>
              </p:nvSpPr>
              <p:spPr>
                <a:xfrm>
                  <a:off x="6001200" y="2895120"/>
                  <a:ext cx="130680" cy="225360"/>
                </a:xfrm>
                <a:custGeom>
                  <a:avLst/>
                  <a:gdLst/>
                  <a:ahLst/>
                  <a:rect l="l" t="t" r="r" b="b"/>
                  <a:pathLst>
                    <a:path w="265939" h="343663">
                      <a:moveTo>
                        <a:pt x="265938" y="171831"/>
                      </a:moveTo>
                      <a:cubicBezTo>
                        <a:pt x="265938" y="266700"/>
                        <a:pt x="217297" y="343662"/>
                        <a:pt x="143891" y="343662"/>
                      </a:cubicBezTo>
                      <a:cubicBezTo>
                        <a:pt x="70485" y="343662"/>
                        <a:pt x="0" y="266700"/>
                        <a:pt x="0" y="171831"/>
                      </a:cubicBezTo>
                      <a:cubicBezTo>
                        <a:pt x="0" y="76962"/>
                        <a:pt x="49403" y="0"/>
                        <a:pt x="122809" y="0"/>
                      </a:cubicBezTo>
                      <a:cubicBezTo>
                        <a:pt x="196342" y="0"/>
                        <a:pt x="265938" y="76962"/>
                        <a:pt x="265938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任意多边形: 形状 18"/>
                <p:cNvSpPr/>
                <p:nvPr/>
              </p:nvSpPr>
              <p:spPr>
                <a:xfrm>
                  <a:off x="6392880" y="2765880"/>
                  <a:ext cx="124560" cy="225360"/>
                </a:xfrm>
                <a:custGeom>
                  <a:avLst/>
                  <a:gdLst/>
                  <a:ahLst/>
                  <a:rect l="l" t="t" r="r" b="b"/>
                  <a:pathLst>
                    <a:path w="253493" h="343663">
                      <a:moveTo>
                        <a:pt x="253492" y="171831"/>
                      </a:moveTo>
                      <a:cubicBezTo>
                        <a:pt x="253492" y="266700"/>
                        <a:pt x="206375" y="343662"/>
                        <a:pt x="132969" y="343662"/>
                      </a:cubicBezTo>
                      <a:cubicBezTo>
                        <a:pt x="59563" y="343662"/>
                        <a:pt x="0" y="266700"/>
                        <a:pt x="0" y="171831"/>
                      </a:cubicBezTo>
                      <a:cubicBezTo>
                        <a:pt x="0" y="76962"/>
                        <a:pt x="59563" y="0"/>
                        <a:pt x="132969" y="0"/>
                      </a:cubicBezTo>
                      <a:cubicBezTo>
                        <a:pt x="206375" y="0"/>
                        <a:pt x="253492" y="76835"/>
                        <a:pt x="253492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任意多边形: 形状 19"/>
                <p:cNvSpPr/>
                <p:nvPr/>
              </p:nvSpPr>
              <p:spPr>
                <a:xfrm>
                  <a:off x="6060600" y="2940480"/>
                  <a:ext cx="73080" cy="118080"/>
                </a:xfrm>
                <a:custGeom>
                  <a:avLst/>
                  <a:gdLst/>
                  <a:ahLst/>
                  <a:rect l="l" t="t" r="r" b="b"/>
                  <a:pathLst>
                    <a:path w="149226" h="180468">
                      <a:moveTo>
                        <a:pt x="108077" y="0"/>
                      </a:moveTo>
                      <a:cubicBezTo>
                        <a:pt x="149225" y="50800"/>
                        <a:pt x="148463" y="111125"/>
                        <a:pt x="126365" y="176276"/>
                      </a:cubicBezTo>
                      <a:cubicBezTo>
                        <a:pt x="19431" y="180467"/>
                        <a:pt x="0" y="17018"/>
                        <a:pt x="108077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任意多边形: 形状 20"/>
                <p:cNvSpPr/>
                <p:nvPr/>
              </p:nvSpPr>
              <p:spPr>
                <a:xfrm>
                  <a:off x="6444000" y="2809080"/>
                  <a:ext cx="78120" cy="122760"/>
                </a:xfrm>
                <a:custGeom>
                  <a:avLst/>
                  <a:gdLst/>
                  <a:ahLst/>
                  <a:rect l="l" t="t" r="r" b="b"/>
                  <a:pathLst>
                    <a:path w="159259" h="187199">
                      <a:moveTo>
                        <a:pt x="119761" y="0"/>
                      </a:moveTo>
                      <a:cubicBezTo>
                        <a:pt x="159258" y="52070"/>
                        <a:pt x="156591" y="112268"/>
                        <a:pt x="132334" y="176784"/>
                      </a:cubicBezTo>
                      <a:cubicBezTo>
                        <a:pt x="24003" y="187198"/>
                        <a:pt x="0" y="2921"/>
                        <a:pt x="119761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任意多边形: 形状 21"/>
                <p:cNvSpPr/>
                <p:nvPr/>
              </p:nvSpPr>
              <p:spPr>
                <a:xfrm>
                  <a:off x="6292800" y="2991240"/>
                  <a:ext cx="63720" cy="86040"/>
                </a:xfrm>
                <a:custGeom>
                  <a:avLst/>
                  <a:gdLst/>
                  <a:ahLst/>
                  <a:rect l="l" t="t" r="r" b="b"/>
                  <a:pathLst>
                    <a:path w="130176" h="131573">
                      <a:moveTo>
                        <a:pt x="0" y="0"/>
                      </a:moveTo>
                      <a:cubicBezTo>
                        <a:pt x="130175" y="19939"/>
                        <a:pt x="98171" y="70231"/>
                        <a:pt x="7239" y="131572"/>
                      </a:cubicBezTo>
                      <a:cubicBezTo>
                        <a:pt x="109474" y="56261"/>
                        <a:pt x="102108" y="25527"/>
                        <a:pt x="0" y="0"/>
                      </a:cubicBezTo>
                      <a:close/>
                    </a:path>
                  </a:pathLst>
                </a:custGeom>
                <a:solidFill>
                  <a:srgbClr val="2a2a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任意多边形: 形状 22"/>
                <p:cNvSpPr/>
                <p:nvPr/>
              </p:nvSpPr>
              <p:spPr>
                <a:xfrm>
                  <a:off x="6133680" y="3191760"/>
                  <a:ext cx="215640" cy="96120"/>
                </a:xfrm>
                <a:custGeom>
                  <a:avLst/>
                  <a:gdLst/>
                  <a:ahLst/>
                  <a:rect l="l" t="t" r="r" b="b"/>
                  <a:pathLst>
                    <a:path w="438532" h="146686">
                      <a:moveTo>
                        <a:pt x="0" y="106172"/>
                      </a:moveTo>
                      <a:cubicBezTo>
                        <a:pt x="161290" y="146685"/>
                        <a:pt x="366903" y="126238"/>
                        <a:pt x="438531" y="0"/>
                      </a:cubicBezTo>
                      <a:cubicBezTo>
                        <a:pt x="353441" y="105283"/>
                        <a:pt x="178308" y="134493"/>
                        <a:pt x="0" y="106172"/>
                      </a:cubicBezTo>
                      <a:close/>
                    </a:path>
                  </a:pathLst>
                </a:custGeom>
                <a:solidFill>
                  <a:srgbClr val="2c2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6" name="组合 65"/>
          <p:cNvGrpSpPr/>
          <p:nvPr/>
        </p:nvGrpSpPr>
        <p:grpSpPr>
          <a:xfrm>
            <a:off x="7912080" y="4732200"/>
            <a:ext cx="839880" cy="1203480"/>
            <a:chOff x="7912080" y="4732200"/>
            <a:chExt cx="839880" cy="1203480"/>
          </a:xfrm>
        </p:grpSpPr>
        <p:grpSp>
          <p:nvGrpSpPr>
            <p:cNvPr id="587" name="组合 66"/>
            <p:cNvGrpSpPr/>
            <p:nvPr/>
          </p:nvGrpSpPr>
          <p:grpSpPr>
            <a:xfrm>
              <a:off x="8082360" y="5505120"/>
              <a:ext cx="421200" cy="430560"/>
              <a:chOff x="8082360" y="5505120"/>
              <a:chExt cx="421200" cy="430560"/>
            </a:xfrm>
          </p:grpSpPr>
          <p:sp>
            <p:nvSpPr>
              <p:cNvPr id="588" name="任意多边形: 形状 73"/>
              <p:cNvSpPr/>
              <p:nvPr/>
            </p:nvSpPr>
            <p:spPr>
              <a:xfrm>
                <a:off x="8367120" y="5505120"/>
                <a:ext cx="136440" cy="420840"/>
              </a:xfrm>
              <a:custGeom>
                <a:avLst/>
                <a:gdLst/>
                <a:ahLst/>
                <a:rect l="l" t="t" r="r" b="b"/>
                <a:pathLst>
                  <a:path w="98934" h="228474">
                    <a:moveTo>
                      <a:pt x="98933" y="183134"/>
                    </a:moveTo>
                    <a:cubicBezTo>
                      <a:pt x="87630" y="217170"/>
                      <a:pt x="22733" y="228473"/>
                      <a:pt x="0" y="183134"/>
                    </a:cubicBezTo>
                    <a:lnTo>
                      <a:pt x="8128" y="6477"/>
                    </a:lnTo>
                    <a:lnTo>
                      <a:pt x="75565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任意多边形: 形状 74"/>
              <p:cNvSpPr/>
              <p:nvPr/>
            </p:nvSpPr>
            <p:spPr>
              <a:xfrm>
                <a:off x="8082360" y="5551920"/>
                <a:ext cx="128880" cy="383760"/>
              </a:xfrm>
              <a:custGeom>
                <a:avLst/>
                <a:gdLst/>
                <a:ahLst/>
                <a:rect l="l" t="t" r="r" b="b"/>
                <a:pathLst>
                  <a:path w="93346" h="208281">
                    <a:moveTo>
                      <a:pt x="93345" y="165735"/>
                    </a:moveTo>
                    <a:cubicBezTo>
                      <a:pt x="83185" y="196850"/>
                      <a:pt x="22225" y="208280"/>
                      <a:pt x="0" y="167386"/>
                    </a:cubicBezTo>
                    <a:lnTo>
                      <a:pt x="4699" y="6985"/>
                    </a:lnTo>
                    <a:lnTo>
                      <a:pt x="68199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组合 67"/>
            <p:cNvGrpSpPr/>
            <p:nvPr/>
          </p:nvGrpSpPr>
          <p:grpSpPr>
            <a:xfrm>
              <a:off x="7912080" y="4732200"/>
              <a:ext cx="839880" cy="954360"/>
              <a:chOff x="7912080" y="4732200"/>
              <a:chExt cx="839880" cy="954360"/>
            </a:xfrm>
          </p:grpSpPr>
          <p:sp>
            <p:nvSpPr>
              <p:cNvPr id="591" name="任意多边形: 形状 71"/>
              <p:cNvSpPr/>
              <p:nvPr/>
            </p:nvSpPr>
            <p:spPr>
              <a:xfrm>
                <a:off x="8098560" y="4732200"/>
                <a:ext cx="653400" cy="785160"/>
              </a:xfrm>
              <a:custGeom>
                <a:avLst/>
                <a:gdLst/>
                <a:ahLst/>
                <a:rect l="l" t="t" r="r" b="b"/>
                <a:pathLst>
                  <a:path w="473330" h="426086">
                    <a:moveTo>
                      <a:pt x="210693" y="0"/>
                    </a:moveTo>
                    <a:cubicBezTo>
                      <a:pt x="403606" y="0"/>
                      <a:pt x="473329" y="401701"/>
                      <a:pt x="236601" y="426085"/>
                    </a:cubicBezTo>
                    <a:cubicBezTo>
                      <a:pt x="0" y="426085"/>
                      <a:pt x="48514" y="38608"/>
                      <a:pt x="210693" y="0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任意多边形: 形状 72"/>
              <p:cNvSpPr/>
              <p:nvPr/>
            </p:nvSpPr>
            <p:spPr>
              <a:xfrm>
                <a:off x="7912080" y="5051520"/>
                <a:ext cx="510480" cy="635040"/>
              </a:xfrm>
              <a:custGeom>
                <a:avLst/>
                <a:gdLst/>
                <a:ahLst/>
                <a:rect l="l" t="t" r="r" b="b"/>
                <a:pathLst>
                  <a:path w="369952" h="344679">
                    <a:moveTo>
                      <a:pt x="126238" y="19685"/>
                    </a:moveTo>
                    <a:cubicBezTo>
                      <a:pt x="277876" y="0"/>
                      <a:pt x="369951" y="278892"/>
                      <a:pt x="186182" y="320421"/>
                    </a:cubicBezTo>
                    <a:cubicBezTo>
                      <a:pt x="0" y="344678"/>
                      <a:pt x="2413" y="63754"/>
                      <a:pt x="126238" y="19685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组合 68"/>
            <p:cNvGrpSpPr/>
            <p:nvPr/>
          </p:nvGrpSpPr>
          <p:grpSpPr>
            <a:xfrm>
              <a:off x="8059320" y="5056920"/>
              <a:ext cx="484920" cy="447480"/>
              <a:chOff x="8059320" y="5056920"/>
              <a:chExt cx="484920" cy="447480"/>
            </a:xfrm>
          </p:grpSpPr>
          <p:sp>
            <p:nvSpPr>
              <p:cNvPr id="594" name="椭圆 69"/>
              <p:cNvSpPr/>
              <p:nvPr/>
            </p:nvSpPr>
            <p:spPr>
              <a:xfrm>
                <a:off x="8398440" y="5056920"/>
                <a:ext cx="145800" cy="2685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70"/>
              <p:cNvSpPr/>
              <p:nvPr/>
            </p:nvSpPr>
            <p:spPr>
              <a:xfrm>
                <a:off x="8059320" y="5288040"/>
                <a:ext cx="112320" cy="2163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6" name="Freeform 106"/>
          <p:cNvSpPr/>
          <p:nvPr/>
        </p:nvSpPr>
        <p:spPr>
          <a:xfrm>
            <a:off x="6539040" y="1101600"/>
            <a:ext cx="62676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6"/>
          <p:cNvSpPr/>
          <p:nvPr/>
        </p:nvSpPr>
        <p:spPr>
          <a:xfrm>
            <a:off x="4297320" y="30636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6"/>
          <p:cNvSpPr/>
          <p:nvPr/>
        </p:nvSpPr>
        <p:spPr>
          <a:xfrm>
            <a:off x="2327400" y="955800"/>
            <a:ext cx="952200" cy="5634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78"/>
          <p:cNvGrpSpPr/>
          <p:nvPr/>
        </p:nvGrpSpPr>
        <p:grpSpPr>
          <a:xfrm>
            <a:off x="297000" y="290520"/>
            <a:ext cx="1295280" cy="1623960"/>
            <a:chOff x="297000" y="290520"/>
            <a:chExt cx="1295280" cy="1623960"/>
          </a:xfrm>
        </p:grpSpPr>
        <p:sp>
          <p:nvSpPr>
            <p:cNvPr id="600" name="任意多边形: 形状 79"/>
            <p:cNvSpPr/>
            <p:nvPr/>
          </p:nvSpPr>
          <p:spPr>
            <a:xfrm>
              <a:off x="586440" y="754920"/>
              <a:ext cx="602280" cy="678960"/>
            </a:xfrm>
            <a:custGeom>
              <a:avLst/>
              <a:gdLst/>
              <a:ahLst/>
              <a:rect l="l" t="t" r="r" b="b"/>
              <a:pathLst>
                <a:path w="665227" h="562103">
                  <a:moveTo>
                    <a:pt x="665226" y="298958"/>
                  </a:moveTo>
                  <a:cubicBezTo>
                    <a:pt x="665226" y="446405"/>
                    <a:pt x="513842" y="562102"/>
                    <a:pt x="366395" y="562102"/>
                  </a:cubicBezTo>
                  <a:cubicBezTo>
                    <a:pt x="218948" y="562102"/>
                    <a:pt x="47498" y="532257"/>
                    <a:pt x="47498" y="384810"/>
                  </a:cubicBezTo>
                  <a:cubicBezTo>
                    <a:pt x="0" y="160020"/>
                    <a:pt x="218948" y="0"/>
                    <a:pt x="366395" y="0"/>
                  </a:cubicBezTo>
                  <a:cubicBezTo>
                    <a:pt x="513842" y="127"/>
                    <a:pt x="665226" y="69342"/>
                    <a:pt x="665226" y="298958"/>
                  </a:cubicBezTo>
                  <a:close/>
                </a:path>
              </a:pathLst>
            </a:custGeom>
            <a:solidFill>
              <a:srgbClr val="d866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直接连接符 80"/>
            <p:cNvSpPr/>
            <p:nvPr/>
          </p:nvSpPr>
          <p:spPr>
            <a:xfrm>
              <a:off x="371160" y="551520"/>
              <a:ext cx="105480" cy="26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任意多边形: 形状 81"/>
            <p:cNvSpPr/>
            <p:nvPr/>
          </p:nvSpPr>
          <p:spPr>
            <a:xfrm>
              <a:off x="655560" y="290520"/>
              <a:ext cx="52200" cy="229680"/>
            </a:xfrm>
            <a:custGeom>
              <a:avLst/>
              <a:gdLst/>
              <a:ahLst/>
              <a:rect l="l" t="t" r="r" b="b"/>
              <a:pathLst>
                <a:path w="57660" h="190247">
                  <a:moveTo>
                    <a:pt x="5715" y="0"/>
                  </a:moveTo>
                  <a:cubicBezTo>
                    <a:pt x="0" y="63373"/>
                    <a:pt x="17272" y="126873"/>
                    <a:pt x="57659" y="190246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直接连接符 82"/>
            <p:cNvSpPr/>
            <p:nvPr/>
          </p:nvSpPr>
          <p:spPr>
            <a:xfrm>
              <a:off x="997560" y="316440"/>
              <a:ext cx="3600" cy="24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任意多边形: 形状 83"/>
            <p:cNvSpPr/>
            <p:nvPr/>
          </p:nvSpPr>
          <p:spPr>
            <a:xfrm>
              <a:off x="1361520" y="883800"/>
              <a:ext cx="230760" cy="69480"/>
            </a:xfrm>
            <a:custGeom>
              <a:avLst/>
              <a:gdLst/>
              <a:ahLst/>
              <a:rect l="l" t="t" r="r" b="b"/>
              <a:pathLst>
                <a:path w="255145" h="57659">
                  <a:moveTo>
                    <a:pt x="0" y="18796"/>
                  </a:moveTo>
                  <a:cubicBezTo>
                    <a:pt x="85090" y="0"/>
                    <a:pt x="170053" y="13081"/>
                    <a:pt x="255144" y="5765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直接连接符 84"/>
            <p:cNvSpPr/>
            <p:nvPr/>
          </p:nvSpPr>
          <p:spPr>
            <a:xfrm>
              <a:off x="1290960" y="1460160"/>
              <a:ext cx="97560" cy="24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直接连接符 85"/>
            <p:cNvSpPr/>
            <p:nvPr/>
          </p:nvSpPr>
          <p:spPr>
            <a:xfrm flipH="1">
              <a:off x="707400" y="1684800"/>
              <a:ext cx="97560" cy="22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86"/>
            <p:cNvSpPr/>
            <p:nvPr/>
          </p:nvSpPr>
          <p:spPr>
            <a:xfrm>
              <a:off x="297000" y="129852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68E0-C280-4687-9C23-76AF5D83BE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D3A3-BB80-4D13-BE1B-32167C79F1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83D3-9067-434A-B68C-35B038C35E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F40B-79EF-4C77-BD35-64D45C133D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9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A2DD-30FE-464D-9E1D-B63C29127D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4976-F0EA-4A41-AFA2-0C678595CA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9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C1F5-236E-4769-8F9C-8DFF0CBE71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B36F-902C-411D-BA97-DEC6AD6227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10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CAD6-CF8E-4505-86F7-27FACA7A08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1CBC-38F5-4CF5-93AA-4A9F8CF646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组合 145" descr=""/>
          <p:cNvPicPr/>
          <p:nvPr/>
        </p:nvPicPr>
        <p:blipFill>
          <a:blip r:embed="rId2"/>
          <a:stretch/>
        </p:blipFill>
        <p:spPr>
          <a:xfrm>
            <a:off x="1158840" y="782640"/>
            <a:ext cx="614520" cy="588960"/>
          </a:xfrm>
          <a:prstGeom prst="rect">
            <a:avLst/>
          </a:prstGeom>
          <a:ln w="0">
            <a:noFill/>
          </a:ln>
        </p:spPr>
      </p:pic>
      <p:pic>
        <p:nvPicPr>
          <p:cNvPr id="827" name="组合 153" descr=""/>
          <p:cNvPicPr/>
          <p:nvPr/>
        </p:nvPicPr>
        <p:blipFill>
          <a:blip r:embed="rId3"/>
          <a:stretch/>
        </p:blipFill>
        <p:spPr>
          <a:xfrm>
            <a:off x="2023920" y="396720"/>
            <a:ext cx="473040" cy="4827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9" descr=""/>
          <p:cNvPicPr/>
          <p:nvPr/>
        </p:nvPicPr>
        <p:blipFill>
          <a:blip r:embed="rId4"/>
          <a:stretch/>
        </p:blipFill>
        <p:spPr>
          <a:xfrm>
            <a:off x="243000" y="338040"/>
            <a:ext cx="923760" cy="115884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5923-7E9E-4AC6-98EC-2B7B6E54F0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722C-B542-488C-B701-8B77D20165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237C-D676-40FE-A9E6-08530323E2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56AB-DB17-439E-86D6-D793BA1FC8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0D29-40D9-4BD1-849F-137BB158A3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49BB-34F4-438F-8AEB-BF6200CDC8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31" descr=""/>
          <p:cNvPicPr/>
          <p:nvPr/>
        </p:nvPicPr>
        <p:blipFill>
          <a:blip r:embed="rId2"/>
          <a:stretch/>
        </p:blipFill>
        <p:spPr>
          <a:xfrm>
            <a:off x="415800" y="254160"/>
            <a:ext cx="8650440" cy="656568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0E75-7845-49DF-AFF0-D7EF082247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ACE0-D802-4EA9-AC09-3CAD6FDB62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C6ED-1BDA-4EAF-BA7E-1A6197FD9B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9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5" descr=""/>
          <p:cNvPicPr/>
          <p:nvPr/>
        </p:nvPicPr>
        <p:blipFill>
          <a:blip r:embed="rId3"/>
          <a:stretch/>
        </p:blipFill>
        <p:spPr>
          <a:xfrm>
            <a:off x="5292720" y="1400040"/>
            <a:ext cx="3282840" cy="46040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99" descr=""/>
          <p:cNvPicPr/>
          <p:nvPr/>
        </p:nvPicPr>
        <p:blipFill>
          <a:blip r:embed="rId4"/>
          <a:stretch/>
        </p:blipFill>
        <p:spPr>
          <a:xfrm>
            <a:off x="390600" y="433440"/>
            <a:ext cx="1298520" cy="16333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01" descr=""/>
          <p:cNvPicPr/>
          <p:nvPr/>
        </p:nvPicPr>
        <p:blipFill>
          <a:blip r:embed="rId5"/>
          <a:stretch/>
        </p:blipFill>
        <p:spPr>
          <a:xfrm>
            <a:off x="2604960" y="398520"/>
            <a:ext cx="4965840" cy="129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8357-FFDB-4E9F-82FF-3C54491AFA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EAD7-E229-4AF9-9B76-7A5FFD8A07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114A-101C-4CB0-AB99-5980284186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DCDE-C8E1-47F2-A998-8CCB1C114D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8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9" descr=""/>
          <p:cNvPicPr/>
          <p:nvPr/>
        </p:nvPicPr>
        <p:blipFill>
          <a:blip r:embed="rId3"/>
          <a:stretch/>
        </p:blipFill>
        <p:spPr>
          <a:xfrm>
            <a:off x="627120" y="1398600"/>
            <a:ext cx="2886120" cy="48229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91" descr=""/>
          <p:cNvPicPr/>
          <p:nvPr/>
        </p:nvPicPr>
        <p:blipFill>
          <a:blip r:embed="rId4"/>
          <a:stretch/>
        </p:blipFill>
        <p:spPr>
          <a:xfrm>
            <a:off x="7232760" y="4189320"/>
            <a:ext cx="1687320" cy="204156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106"/>
          <p:cNvSpPr/>
          <p:nvPr/>
        </p:nvSpPr>
        <p:spPr>
          <a:xfrm>
            <a:off x="7777080" y="1486080"/>
            <a:ext cx="625680" cy="42192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06"/>
          <p:cNvSpPr/>
          <p:nvPr/>
        </p:nvSpPr>
        <p:spPr>
          <a:xfrm>
            <a:off x="6904080" y="741240"/>
            <a:ext cx="62532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0F57-ECA2-4173-BB8B-E0798BE820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597B-227D-4C67-8951-6DB518D4A6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872F-492D-45E5-80D1-E67627594B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2AB4-50E3-48EA-B92C-F0860DB185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9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B966-2FF2-4FF8-80CE-2DD7013800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3526-1750-481B-8813-3933FE338C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06"/>
          <p:cNvSpPr/>
          <p:nvPr/>
        </p:nvSpPr>
        <p:spPr>
          <a:xfrm>
            <a:off x="2527200" y="63828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6"/>
          <p:cNvSpPr/>
          <p:nvPr/>
        </p:nvSpPr>
        <p:spPr>
          <a:xfrm>
            <a:off x="1692360" y="1231920"/>
            <a:ext cx="952560" cy="5652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90" descr=""/>
          <p:cNvPicPr/>
          <p:nvPr/>
        </p:nvPicPr>
        <p:blipFill>
          <a:blip r:embed="rId2"/>
          <a:stretch/>
        </p:blipFill>
        <p:spPr>
          <a:xfrm>
            <a:off x="417600" y="257040"/>
            <a:ext cx="1298520" cy="163512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92" descr=""/>
          <p:cNvPicPr/>
          <p:nvPr/>
        </p:nvPicPr>
        <p:blipFill>
          <a:blip r:embed="rId3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94" descr=""/>
          <p:cNvPicPr/>
          <p:nvPr/>
        </p:nvPicPr>
        <p:blipFill>
          <a:blip r:embed="rId4"/>
          <a:stretch/>
        </p:blipFill>
        <p:spPr>
          <a:xfrm>
            <a:off x="7278840" y="4546440"/>
            <a:ext cx="1842840" cy="22622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96" descr=""/>
          <p:cNvPicPr/>
          <p:nvPr/>
        </p:nvPicPr>
        <p:blipFill>
          <a:blip r:embed="rId5"/>
          <a:stretch/>
        </p:blipFill>
        <p:spPr>
          <a:xfrm>
            <a:off x="8134200" y="3645000"/>
            <a:ext cx="777960" cy="1047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9059-5030-4A03-A3CD-9C59DA67CB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AC84-C6F7-4B17-B9C0-CB95416BC4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1" descr="QQ图片20200803154557"/>
          <p:cNvPicPr/>
          <p:nvPr/>
        </p:nvPicPr>
        <p:blipFill>
          <a:blip r:embed="rId1"/>
          <a:stretch/>
        </p:blipFill>
        <p:spPr>
          <a:xfrm>
            <a:off x="101520" y="1263600"/>
            <a:ext cx="847584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69633" descr=""/>
          <p:cNvPicPr/>
          <p:nvPr/>
        </p:nvPicPr>
        <p:blipFill>
          <a:blip r:embed="rId1"/>
          <a:stretch/>
        </p:blipFill>
        <p:spPr>
          <a:xfrm>
            <a:off x="376200" y="2309760"/>
            <a:ext cx="8391600" cy="2238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8064720" cy="3189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468360" y="3438360"/>
            <a:ext cx="8064360" cy="3193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468360" y="3851280"/>
            <a:ext cx="8064360" cy="3189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468360" y="4211640"/>
            <a:ext cx="8064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2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7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68609" descr=""/>
          <p:cNvPicPr/>
          <p:nvPr/>
        </p:nvPicPr>
        <p:blipFill>
          <a:blip r:embed="rId1"/>
          <a:stretch/>
        </p:blipFill>
        <p:spPr>
          <a:xfrm>
            <a:off x="361800" y="1195560"/>
            <a:ext cx="8420400" cy="44668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7848720" cy="3189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611280" y="3151080"/>
            <a:ext cx="7848360" cy="3193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539640" y="4211640"/>
            <a:ext cx="7848720" cy="3189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539640" y="4581360"/>
            <a:ext cx="7848720" cy="3193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6"/>
          <a:stretch/>
        </p:blipFill>
        <p:spPr>
          <a:xfrm>
            <a:off x="611280" y="4941720"/>
            <a:ext cx="7848360" cy="3193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7"/>
          <a:stretch/>
        </p:blipFill>
        <p:spPr>
          <a:xfrm>
            <a:off x="611280" y="5300640"/>
            <a:ext cx="7848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4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67585" descr=""/>
          <p:cNvPicPr/>
          <p:nvPr/>
        </p:nvPicPr>
        <p:blipFill>
          <a:blip r:embed="rId1"/>
          <a:stretch/>
        </p:blipFill>
        <p:spPr>
          <a:xfrm>
            <a:off x="361800" y="905040"/>
            <a:ext cx="8420400" cy="50479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611280" y="2871720"/>
            <a:ext cx="7921440" cy="3193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611280" y="3251160"/>
            <a:ext cx="7921440" cy="3189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539640" y="3645000"/>
            <a:ext cx="7921800" cy="3189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5"/>
          <a:stretch/>
        </p:blipFill>
        <p:spPr>
          <a:xfrm>
            <a:off x="611280" y="4005360"/>
            <a:ext cx="7921440" cy="3189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6"/>
          <a:stretch/>
        </p:blipFill>
        <p:spPr>
          <a:xfrm>
            <a:off x="684360" y="4365720"/>
            <a:ext cx="7921440" cy="3189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7"/>
          <a:stretch/>
        </p:blipFill>
        <p:spPr>
          <a:xfrm>
            <a:off x="611280" y="4724280"/>
            <a:ext cx="7921440" cy="3193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8"/>
          <a:stretch/>
        </p:blipFill>
        <p:spPr>
          <a:xfrm>
            <a:off x="539640" y="5094360"/>
            <a:ext cx="7921800" cy="3189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9"/>
          <a:stretch/>
        </p:blipFill>
        <p:spPr>
          <a:xfrm>
            <a:off x="539640" y="5473800"/>
            <a:ext cx="79218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0428" descr=""/>
          <p:cNvPicPr/>
          <p:nvPr/>
        </p:nvPicPr>
        <p:blipFill>
          <a:blip r:embed="rId1"/>
          <a:stretch/>
        </p:blipFill>
        <p:spPr>
          <a:xfrm>
            <a:off x="209520" y="888840"/>
            <a:ext cx="8724960" cy="54198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1547640" y="1413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3059280" y="1413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4427640" y="1413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5796000" y="1413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5219640" y="1916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7812000" y="1916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2843280" y="2330280"/>
            <a:ext cx="865080" cy="3193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5848200" y="2330280"/>
            <a:ext cx="865440" cy="3193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6659640" y="2717640"/>
            <a:ext cx="792000" cy="3193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1"/>
          <a:stretch/>
        </p:blipFill>
        <p:spPr>
          <a:xfrm>
            <a:off x="7308720" y="3141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2"/>
          <a:stretch/>
        </p:blipFill>
        <p:spPr>
          <a:xfrm>
            <a:off x="6083280" y="3519360"/>
            <a:ext cx="504720" cy="3193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3"/>
          <a:stretch/>
        </p:blipFill>
        <p:spPr>
          <a:xfrm>
            <a:off x="1116000" y="4365720"/>
            <a:ext cx="504720" cy="3189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4"/>
          <a:stretch/>
        </p:blipFill>
        <p:spPr>
          <a:xfrm>
            <a:off x="3995640" y="4365720"/>
            <a:ext cx="505080" cy="318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5"/>
          <a:stretch/>
        </p:blipFill>
        <p:spPr>
          <a:xfrm>
            <a:off x="8164440" y="4734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6"/>
          <a:stretch/>
        </p:blipFill>
        <p:spPr>
          <a:xfrm>
            <a:off x="3708360" y="51577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7"/>
          <a:stretch/>
        </p:blipFill>
        <p:spPr>
          <a:xfrm>
            <a:off x="4211640" y="596916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图片 59410" descr=""/>
          <p:cNvPicPr/>
          <p:nvPr/>
        </p:nvPicPr>
        <p:blipFill>
          <a:blip r:embed="rId1"/>
          <a:stretch/>
        </p:blipFill>
        <p:spPr>
          <a:xfrm>
            <a:off x="176040" y="1052640"/>
            <a:ext cx="8791920" cy="47527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2"/>
          <a:stretch/>
        </p:blipFill>
        <p:spPr>
          <a:xfrm>
            <a:off x="1979640" y="148428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3"/>
          <a:stretch/>
        </p:blipFill>
        <p:spPr>
          <a:xfrm>
            <a:off x="4427640" y="1484280"/>
            <a:ext cx="720720" cy="3189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4"/>
          <a:stretch/>
        </p:blipFill>
        <p:spPr>
          <a:xfrm>
            <a:off x="8244000" y="2276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5"/>
          <a:stretch/>
        </p:blipFill>
        <p:spPr>
          <a:xfrm>
            <a:off x="8244000" y="27082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6"/>
          <a:stretch/>
        </p:blipFill>
        <p:spPr>
          <a:xfrm>
            <a:off x="8244000" y="30780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7"/>
          <a:stretch/>
        </p:blipFill>
        <p:spPr>
          <a:xfrm>
            <a:off x="8244000" y="3500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8"/>
          <a:stretch/>
        </p:blipFill>
        <p:spPr>
          <a:xfrm>
            <a:off x="8244000" y="393372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9"/>
          <a:stretch/>
        </p:blipFill>
        <p:spPr>
          <a:xfrm>
            <a:off x="5435640" y="4724280"/>
            <a:ext cx="3585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图片 58373" descr=""/>
          <p:cNvPicPr/>
          <p:nvPr/>
        </p:nvPicPr>
        <p:blipFill>
          <a:blip r:embed="rId1"/>
          <a:stretch/>
        </p:blipFill>
        <p:spPr>
          <a:xfrm>
            <a:off x="352440" y="1290600"/>
            <a:ext cx="8439120" cy="4276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3"/>
          <a:stretch/>
        </p:blipFill>
        <p:spPr>
          <a:xfrm>
            <a:off x="6372360" y="3068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4"/>
          <a:stretch/>
        </p:blipFill>
        <p:spPr>
          <a:xfrm>
            <a:off x="7524720" y="3789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5"/>
          <a:stretch/>
        </p:blipFill>
        <p:spPr>
          <a:xfrm>
            <a:off x="6588000" y="486900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图片 57352" descr=""/>
          <p:cNvPicPr/>
          <p:nvPr/>
        </p:nvPicPr>
        <p:blipFill>
          <a:blip r:embed="rId1"/>
          <a:stretch/>
        </p:blipFill>
        <p:spPr>
          <a:xfrm>
            <a:off x="476280" y="1104840"/>
            <a:ext cx="8191440" cy="464832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2"/>
          <a:stretch/>
        </p:blipFill>
        <p:spPr>
          <a:xfrm>
            <a:off x="2085840" y="1792440"/>
            <a:ext cx="614520" cy="31896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3"/>
          <a:stretch/>
        </p:blipFill>
        <p:spPr>
          <a:xfrm>
            <a:off x="4211640" y="1844640"/>
            <a:ext cx="614520" cy="31896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4"/>
          <a:stretch/>
        </p:blipFill>
        <p:spPr>
          <a:xfrm>
            <a:off x="6218280" y="1844640"/>
            <a:ext cx="614160" cy="31896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5"/>
          <a:stretch/>
        </p:blipFill>
        <p:spPr>
          <a:xfrm>
            <a:off x="8018640" y="1844640"/>
            <a:ext cx="614160" cy="31896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6"/>
          <a:stretch/>
        </p:blipFill>
        <p:spPr>
          <a:xfrm>
            <a:off x="1979640" y="2295360"/>
            <a:ext cx="614160" cy="31932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7"/>
          <a:stretch/>
        </p:blipFill>
        <p:spPr>
          <a:xfrm>
            <a:off x="3986280" y="2349360"/>
            <a:ext cx="614160" cy="31932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8"/>
          <a:stretch/>
        </p:blipFill>
        <p:spPr>
          <a:xfrm>
            <a:off x="6075360" y="2349360"/>
            <a:ext cx="614520" cy="31932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1" descr=""/>
          <p:cNvPicPr/>
          <p:nvPr/>
        </p:nvPicPr>
        <p:blipFill>
          <a:blip r:embed="rId9"/>
          <a:stretch/>
        </p:blipFill>
        <p:spPr>
          <a:xfrm>
            <a:off x="7885080" y="2286000"/>
            <a:ext cx="614520" cy="31896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" descr=""/>
          <p:cNvPicPr/>
          <p:nvPr/>
        </p:nvPicPr>
        <p:blipFill>
          <a:blip r:embed="rId10"/>
          <a:stretch/>
        </p:blipFill>
        <p:spPr>
          <a:xfrm>
            <a:off x="1042920" y="3789360"/>
            <a:ext cx="2305080" cy="50328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" descr=""/>
          <p:cNvPicPr/>
          <p:nvPr/>
        </p:nvPicPr>
        <p:blipFill>
          <a:blip r:embed="rId11"/>
          <a:stretch/>
        </p:blipFill>
        <p:spPr>
          <a:xfrm>
            <a:off x="826920" y="4394160"/>
            <a:ext cx="2305080" cy="50328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" descr=""/>
          <p:cNvPicPr/>
          <p:nvPr/>
        </p:nvPicPr>
        <p:blipFill>
          <a:blip r:embed="rId12"/>
          <a:stretch/>
        </p:blipFill>
        <p:spPr>
          <a:xfrm>
            <a:off x="755640" y="5013360"/>
            <a:ext cx="2305080" cy="50328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" descr=""/>
          <p:cNvPicPr/>
          <p:nvPr/>
        </p:nvPicPr>
        <p:blipFill>
          <a:blip r:embed="rId13"/>
          <a:stretch/>
        </p:blipFill>
        <p:spPr>
          <a:xfrm>
            <a:off x="4932360" y="3798720"/>
            <a:ext cx="2305080" cy="50328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" descr=""/>
          <p:cNvPicPr/>
          <p:nvPr/>
        </p:nvPicPr>
        <p:blipFill>
          <a:blip r:embed="rId14"/>
          <a:stretch/>
        </p:blipFill>
        <p:spPr>
          <a:xfrm>
            <a:off x="4932360" y="4384800"/>
            <a:ext cx="2305080" cy="50328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" descr=""/>
          <p:cNvPicPr/>
          <p:nvPr/>
        </p:nvPicPr>
        <p:blipFill>
          <a:blip r:embed="rId15"/>
          <a:stretch/>
        </p:blipFill>
        <p:spPr>
          <a:xfrm>
            <a:off x="4932360" y="4878360"/>
            <a:ext cx="2305080" cy="50328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" descr=""/>
          <p:cNvPicPr/>
          <p:nvPr/>
        </p:nvPicPr>
        <p:blipFill>
          <a:blip r:embed="rId16"/>
          <a:stretch/>
        </p:blipFill>
        <p:spPr>
          <a:xfrm>
            <a:off x="4932360" y="5383080"/>
            <a:ext cx="23050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56324" descr=""/>
          <p:cNvPicPr/>
          <p:nvPr/>
        </p:nvPicPr>
        <p:blipFill>
          <a:blip r:embed="rId1"/>
          <a:stretch/>
        </p:blipFill>
        <p:spPr>
          <a:xfrm>
            <a:off x="857160" y="1790640"/>
            <a:ext cx="7429680" cy="32767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826920" y="2511360"/>
            <a:ext cx="3889440" cy="3193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468360" y="3141720"/>
            <a:ext cx="3889440" cy="3189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250920" y="3716280"/>
            <a:ext cx="3889440" cy="31932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0" y="4365720"/>
            <a:ext cx="3889440" cy="318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4716360" y="2430360"/>
            <a:ext cx="3889440" cy="5763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4716360" y="3068640"/>
            <a:ext cx="3889440" cy="5763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4716360" y="3645000"/>
            <a:ext cx="3889440" cy="57600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4716360" y="4221000"/>
            <a:ext cx="38894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55300" descr=""/>
          <p:cNvPicPr/>
          <p:nvPr/>
        </p:nvPicPr>
        <p:blipFill>
          <a:blip r:embed="rId1"/>
          <a:stretch/>
        </p:blipFill>
        <p:spPr>
          <a:xfrm>
            <a:off x="190440" y="1847880"/>
            <a:ext cx="8763120" cy="31622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1476360" y="4546440"/>
            <a:ext cx="574560" cy="3193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3554280" y="4121280"/>
            <a:ext cx="574920" cy="3189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5651640" y="4581360"/>
            <a:ext cx="574560" cy="3193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5"/>
          <a:stretch/>
        </p:blipFill>
        <p:spPr>
          <a:xfrm>
            <a:off x="7667640" y="4140360"/>
            <a:ext cx="6494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54276" descr=""/>
          <p:cNvPicPr/>
          <p:nvPr/>
        </p:nvPicPr>
        <p:blipFill>
          <a:blip r:embed="rId1"/>
          <a:stretch/>
        </p:blipFill>
        <p:spPr>
          <a:xfrm>
            <a:off x="157320" y="942840"/>
            <a:ext cx="8829360" cy="49723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755640" y="1969920"/>
            <a:ext cx="7848720" cy="3193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611280" y="2349360"/>
            <a:ext cx="7848360" cy="3193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684360" y="2708280"/>
            <a:ext cx="7848360" cy="3189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5"/>
          <a:stretch/>
        </p:blipFill>
        <p:spPr>
          <a:xfrm>
            <a:off x="611280" y="3068640"/>
            <a:ext cx="7848360" cy="3189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6"/>
          <a:stretch/>
        </p:blipFill>
        <p:spPr>
          <a:xfrm>
            <a:off x="755640" y="4437000"/>
            <a:ext cx="7848720" cy="3193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7"/>
          <a:stretch/>
        </p:blipFill>
        <p:spPr>
          <a:xfrm>
            <a:off x="684360" y="4807080"/>
            <a:ext cx="7848360" cy="3189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8"/>
          <a:stretch/>
        </p:blipFill>
        <p:spPr>
          <a:xfrm>
            <a:off x="684360" y="5157720"/>
            <a:ext cx="7848360" cy="3193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9"/>
          <a:stretch/>
        </p:blipFill>
        <p:spPr>
          <a:xfrm>
            <a:off x="755640" y="5526000"/>
            <a:ext cx="78487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52231" descr=""/>
          <p:cNvPicPr/>
          <p:nvPr/>
        </p:nvPicPr>
        <p:blipFill>
          <a:blip r:embed="rId1"/>
          <a:stretch/>
        </p:blipFill>
        <p:spPr>
          <a:xfrm>
            <a:off x="324000" y="1266840"/>
            <a:ext cx="8496000" cy="43243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539640" y="2008080"/>
            <a:ext cx="5832720" cy="3193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468360" y="2368440"/>
            <a:ext cx="5832360" cy="3193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395280" y="2717640"/>
            <a:ext cx="5832360" cy="3193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395280" y="4159080"/>
            <a:ext cx="8064360" cy="3193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6"/>
          <a:stretch/>
        </p:blipFill>
        <p:spPr>
          <a:xfrm>
            <a:off x="395280" y="4508640"/>
            <a:ext cx="8064360" cy="3189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7"/>
          <a:stretch/>
        </p:blipFill>
        <p:spPr>
          <a:xfrm>
            <a:off x="468360" y="4869000"/>
            <a:ext cx="8064360" cy="3189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8"/>
          <a:stretch/>
        </p:blipFill>
        <p:spPr>
          <a:xfrm>
            <a:off x="539640" y="5186520"/>
            <a:ext cx="8064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0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5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3T07:47:1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